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himes.wav" ContentType="audio/x-wav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9.wmf" ContentType="image/x-wm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  <p:sldId id="269" r:id="rId75"/>
    <p:sldId id="270" r:id="rId76"/>
    <p:sldId id="271" r:id="rId77"/>
    <p:sldId id="272" r:id="rId78"/>
    <p:sldId id="273" r:id="rId79"/>
    <p:sldId id="274" r:id="rId80"/>
    <p:sldId id="275" r:id="rId81"/>
    <p:sldId id="276" r:id="rId82"/>
    <p:sldId id="277" r:id="rId83"/>
    <p:sldId id="278" r:id="rId84"/>
    <p:sldId id="279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slide" Target="slides/slide14.xml"/><Relationship Id="rId76" Type="http://schemas.openxmlformats.org/officeDocument/2006/relationships/slide" Target="slides/slide15.xml"/><Relationship Id="rId77" Type="http://schemas.openxmlformats.org/officeDocument/2006/relationships/slide" Target="slides/slide16.xml"/><Relationship Id="rId78" Type="http://schemas.openxmlformats.org/officeDocument/2006/relationships/slide" Target="slides/slide17.xml"/><Relationship Id="rId79" Type="http://schemas.openxmlformats.org/officeDocument/2006/relationships/slide" Target="slides/slide18.xml"/><Relationship Id="rId80" Type="http://schemas.openxmlformats.org/officeDocument/2006/relationships/slide" Target="slides/slide19.xml"/><Relationship Id="rId81" Type="http://schemas.openxmlformats.org/officeDocument/2006/relationships/slide" Target="slides/slide20.xml"/><Relationship Id="rId82" Type="http://schemas.openxmlformats.org/officeDocument/2006/relationships/slide" Target="slides/slide21.xml"/><Relationship Id="rId83" Type="http://schemas.openxmlformats.org/officeDocument/2006/relationships/slide" Target="slides/slide22.xml"/><Relationship Id="rId84" Type="http://schemas.openxmlformats.org/officeDocument/2006/relationships/slide" Target="slides/slide23.xml"/><Relationship Id="rId85" Type="http://schemas.openxmlformats.org/officeDocument/2006/relationships/slide" Target="slides/slide24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9238-02B7-4D2A-82E3-219880DDA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124F-C085-44B0-A684-B2588886EBA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3FF63E-664B-4DDA-A461-830C5C17B6F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515F22-99D8-45CA-8649-C0614F20F54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4DCECE-9CD5-4205-84CE-57F5F96CB14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C1B243-40BF-42DD-9371-51C0C114244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0C4A65-4AB9-4CE0-9D71-5A0D55AB837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694556-5633-4245-81DB-B07764A0F12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A53AD8-E25E-41D4-8F2C-A4714ECA349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DE7466-3FFD-40BE-8A2B-F675C036BE9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AF7AAE-A671-4552-8B67-8D65BB28E77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BC088B-6C9C-4F9F-B763-87C16CA3E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673C-C57C-4B9E-8EA8-518968FB9BF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47F14-8E0D-4440-9A02-7D77D230801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DAD995-0927-4073-B600-C6DB8159FE5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FBFCE-38A3-43BB-B1AD-FBAD038DFC4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24E3B9-72EF-4733-8AC1-8EDD3516671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9EF88F-14EC-4DF0-B7EC-3A1A42F07FB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A811D9-DF31-40D5-AA26-ED00EA8BA18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6255D1-687E-4A25-9268-8871EF60D4F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A22060-E77C-48E0-8700-01F32ADDE68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F41BB-D597-4D1E-96C5-D2D314A01FF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5A914-65DA-4D11-A796-CADA4C6AB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0FB2-A68F-493C-B10B-4476889402A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4ABBC9-5671-4B31-88BA-EC51C4B46FF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E6C01-682F-406C-BAC5-ACAFC832FB0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91468-77F4-421B-B5B7-37D6081F2C3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2A9E2-4162-4735-904D-D636E2E84BA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090F9-C982-4E48-BC11-D3701B2960D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F40E3-EA3B-4EA0-BB35-31A22CA9812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030C5-BDBD-4A49-9E83-8DF8ABDEDC7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2B76B-DD4C-463D-8C96-58B359CF797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EC263-F110-40F6-A4DF-DB43E666371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28A22-3D83-4A70-A663-7D87FF407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683A2-C50F-421D-9F25-356FD7B9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989C7-9B7A-445B-B5CC-49F30C047C5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0FD3B-238F-4A16-846C-C7B4AA8F144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1D5F7-73D5-4A29-9E94-A7D35E32B09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0FB333-4D95-4E9A-800A-A72A3523387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AED880-63FE-4B88-9462-0151E3DB96B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F105F5-9F8B-43BE-AB38-B95F803CE31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95184E-CEE3-472E-9C60-725CA55AE2E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471F0D-66D6-4076-BED3-E4DEC333E60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59AEA9-574D-424C-9EA8-7FED16C7981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E9F8F9-7798-49EB-AB8B-FDB539D5CA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267F8-60B5-4F38-BF39-B593A71D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DB8588-5F38-41AC-B477-E740391CF86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AD9554-9B0F-4928-B30B-6C8BE15B75A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08F837-08FF-45CF-8D30-FF89D441E3C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B6FE22-FCA6-4E21-B1E3-14D5D60A697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4092A7-46CD-42FE-AD2A-DD70515E73D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8D679B-CAFF-43A1-8B40-832E5C2DC52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6431E9-504B-44EB-974F-91A0FDEB127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7A86F2-DD86-4E35-B00B-D3DB7C55933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27B3EE-73D3-4246-89D8-B0D4E1AFAD6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F4AB15-64BE-4655-88BD-7FA91D43D8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BEC3C-BF04-4EC5-976B-9BDDFA46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5327B2-1AC9-4906-B739-10D503BA103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8DDDE2-1D08-4456-AC17-D5D0EF92CE1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0F0059-BEB1-4BA1-818A-9D205ADB7CE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346CB8-D961-4CDC-B380-FE1345A7335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B0F076-92BB-450A-B4C7-8524BAA5922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48CA4F-1D9E-425F-A38E-5784CF42466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F09713-38FB-4760-8E07-71EB3258132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855B1-B02A-434A-9175-484B087FF31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C3219-5ED7-4638-BB82-5A053651FA0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7A2B9-1DBF-4FCA-A526-D33CB800E8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E5BC3-7BAE-45BE-9675-56AACC83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77E2F-B78E-401C-8C1D-0CD7F6D7A9C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11D17-D4A4-4E2E-A53E-6A6A0BA3284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E544B-6D60-4A57-A168-8E2B489949A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37BE7-AB7B-4965-8D3B-DFC25248D05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FB531-5AA4-4166-9745-49584E06C23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A9A23-71CC-4D22-83E9-5C77D5579EB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BEFC7-10D5-4334-BA63-B5FBD6EFD08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48BB8-1304-409F-80FB-03E0C92F67E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3EC01-1FAF-4342-9591-5A6661C5B46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0AEF4C-10BA-487D-9A2B-7E5C00CB0D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89FE6-CF94-4BD6-BC43-92A7BC9C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6AF9FA-0D22-42EE-AB8A-930EB40CD16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0B8A91-0132-4EE4-91D0-82EBB02F9B7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2E3A38-238D-4A09-9FAF-6568780E291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9199B7-D24C-4968-A043-E222ACB5038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B0F519-0BBF-4AAF-A1AB-45A11F15BDB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95C452-7F48-4D42-974B-FCD489B2842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989602-69D3-4894-B2A0-411B9BAE3F2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DA41D6-C5A1-4CE4-9A56-CDDCD3EFD26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7BFB66-E787-4F38-86B9-919B3026974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3BDD3B-5731-43DA-9E2E-DF082B63F7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D5D0E-E438-4D79-9C20-C9E36FB6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FF8646-5E9B-49DD-8DA7-817B0FBE69B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0A6293-9328-4DD1-A05C-CD58DFE0E3B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8E7026-0045-447D-818E-1DA6C101F93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0B24EF-B982-4581-9C22-2035593E325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99F370-748D-4D14-AFEF-176934EB738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BBFB0E-E164-47D9-9B2D-5C9C135C8BF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E57116-4ED2-45E1-86BE-4CE294AEAA7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D13912-CAA8-466A-A932-D7DCA61D422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2EBA6B-F1A2-4ADC-AE09-36FCDFA57F4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45B9C1-6599-445F-9BD4-64363664AA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CE448-8447-47F6-ABF0-EA0E98AD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03E329-BFB1-4AE4-8617-F21197DCE0F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33336B-5C7D-4E6A-A72C-EBE40D611F3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636F79-752E-4580-BC9A-75C3BD3710F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F79259-0E14-4C96-99E9-4861AF29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E80959-0F7D-471F-A1DD-04FB2D0A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DE41A4-ADE1-49C1-B483-1711E202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6D588B-E396-4EE3-BC56-062FA007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57AB7E-7E9C-40E5-8A4E-C46EFEF1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7DC71D-FC3E-4C9F-908F-552256D0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A3EB7D-C3F9-4BFC-8E26-068808A6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26EE-C3FB-4FE6-89B9-DF0262081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B8AC9-0142-4FFA-9EC8-59A2C46A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F3D9D2-410C-4DD8-ADE0-A1E20190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2981C9-4A55-4316-B56F-FEF5F827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9722EC-BB1A-435A-B629-C4605B41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988CAF-C780-40CD-82E7-8EA74677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611F74-A38C-4E80-9E6E-872A9480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D0906F-EAE5-48DA-A833-6B447E90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5E7A8D-C7AB-41F2-90D5-39E61E15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87CB8E-3379-4362-B19C-0B00351C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556A95-1DB0-4403-893D-2A24919A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541E65-AD26-46D3-B5FA-9125ACC7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87CF5-653F-4CC5-8B64-4CC0A17B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8EA0C8-FA21-482B-929F-EC08A828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C10C8E-C0B1-4C3A-8898-3D7AAAD7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83FF6D-4F09-476A-8C65-D2CF74AE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A0DE41-59B0-4CB5-8570-31A188EB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807C4E-6BB2-4173-90DB-8F67D16F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57FF3A-5407-447F-9EDD-646C775C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588A0D-A7E9-4276-9FDC-FEF6CA1A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FA05D2-FF35-40CF-81AB-0EF46CF8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043F6E-54BD-42C4-AB56-BCB3FCDC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280937-7D80-49BD-AB08-339534B3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A19D8-890F-4DBD-9CE8-4E58A08F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0B48CE-5A9A-4BF4-9D0E-FD33ED53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BB3677-7906-46BE-8286-BF27E446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FE8361-29E5-42A0-BF70-B18E372B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C95106-38AB-451B-A2EA-02F11A93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5F0833-5D1E-4C9C-AE09-3C30E4E7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E809E8-2044-44A6-A7AE-5928442A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D7C1B6-D4D0-4E0A-927D-A88F2178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B39A46-6140-4459-B0FC-25E5E9BA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8CC8F8-08C2-4690-8CFF-6A60F2E3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B7B971-DAB0-44CC-8525-50D6979A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3062E-027F-4BAC-B523-DC68B486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A9BD0A-424E-40E6-A72B-77F78509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7545A3-0488-43C1-8119-0FA10276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5301DC-3A2A-4F72-979C-1C740A41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D26897-47E4-4F42-AD23-2E16E762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F90160-566E-4075-AE98-6FFBEDFA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D13F93-961B-4C7B-86AB-84D3329D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4B25B3-CEFB-4755-A73E-A3CFDC34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00F532-6A04-46B4-811E-4F4FB068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B54C12-D8C3-4B18-8B59-85E20DAE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F05DA5-C474-4E12-80D0-77DFE227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10C1A-48C0-4D0A-8C5A-ACA4F565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422A38-B42F-41D7-BE24-2E2A1658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11B40F-CC49-44A8-A527-3BBA5228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9E2598-8687-497C-AFCD-16BB4655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3F6D01-E962-4C54-B0B0-05DCD75A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753BBF-E3B4-491D-837C-452CF428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64A05E-CBD4-436C-A6F0-D06BDDC8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28BAB5-0312-4E96-92B7-CD9EC253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DEED6D-2CD7-451C-AEFB-05FB97F7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E5FD76-83F2-4CB8-8A40-482CEFA6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5C8A73-3114-43D9-9E30-C7C05435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336EC1-13F0-4575-B43F-6DA26F85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1AB08F-965D-49E0-AF41-1F38BF00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D446AF-C246-4E35-B194-F13ED9EF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6D81CB-0D08-4E5C-9947-362EBF5A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2C2D1D-C8C4-4D21-8051-A1CB6CF6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48FC15-07AC-40E5-AD7A-A3080A15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D9D081-BD21-4F6B-9BF7-6488998D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2C50D4-F7CC-4676-83FF-0B0F5073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74AF30-04BD-4955-AF95-E241A820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37FC7C-BB81-4453-83DF-6BEA856B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DB1D50-316C-43FF-AA2C-D45DC98B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B738BC-61B2-4E23-B0DB-3C07ABEF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1A22CE7-2D29-4E8F-B652-81643207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158984-EB82-4AB8-A12D-C38C8761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60DEB2-7D97-4136-81DA-675B170E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6D1D05-AA7C-4F9D-B0FF-BE6CC9C6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E87ED2-BB7F-41F4-B3F0-5EA98479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95CECB-3E44-48FF-B05A-F5E45653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9C53AE-F2F3-415D-9FF2-AD1CBE54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850539-7452-4DAF-9A09-7704827C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52B2BE-3AF8-41B5-B1AB-6D69B68B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F7DB7D-A66C-443A-8C13-F8C4BFD9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86235A-BEB4-4C67-9592-693E02DE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43141C-6E07-432F-B829-00D53E0F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9CED0B-6964-43EF-B51D-ABBF1C40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A430BE-F7E9-432C-8304-46F45EE7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3150A8-8FEE-47D6-8FEF-7AEC1433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F85482-D514-4EE4-A8AD-791A04E7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C20C49-7808-44BF-9278-FCCC9E40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E09D6B-2D87-45AD-9B1C-94924AFC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3DC657-5D8A-4945-A983-64C8CFA5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D291BD-28AA-4D02-876E-D2DA4848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71064B6-E214-4E45-81BD-3CBB172A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249F24-06A8-4958-985C-1AD87308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702D3E-229B-4416-8375-57B3E989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380C11-8CDE-4674-9389-B81AF66D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458234-FE86-4270-91A7-7FD8C40F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42360A-D4CB-49EA-ACF5-9681DB3C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D9F3BB-FF4A-4AC8-8445-D9FDCCB7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6187C4-AD65-4374-9C52-E761B9B3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1A16B0-EA28-4A77-A63E-56BF2F6D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E4BE1F-D337-436D-92C6-1412F885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BCFD212-F0C9-4A8C-8677-5F974C14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7D69AE-EA67-4B65-B955-C17788CC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1D5634-B7EE-40BB-9589-B40B5ECB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758DCA-D0A5-469D-998E-441B21BB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E85349-16FE-4C23-8A5E-D05514D2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A79D538-161E-4DEB-A603-77EE9021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D59D2C9-43B9-429D-AF93-28338FC2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2B2496-9E19-4EAF-905B-E47B5FCD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2DA20F7-B8D8-49BF-BD2D-981A7B18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70D68E7-F728-4BD9-A1EA-ABB674C3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BE9D4D9-41D3-4ACF-82EB-B09D9B89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FBF0C0E-AE0C-446C-BC9D-6C2827F8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F23B4E-A8BE-46BA-AA8D-2990DBE1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E6CB-DF19-4968-AF7B-2A766B1C90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90541E-81A7-4E24-89AB-77DE84F2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868895-1DC6-4DD6-81DD-6DCD1B87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1BEB8B3-823E-435F-B5CF-364C7D89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6FD5FC0-CD07-4BE1-98B4-02385B0C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B1AD65B-A0F7-4EA1-8B90-E900DEAE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0DEC63C-7E38-475A-B406-911770A2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3F9B210-B99F-4223-8A75-AB8C5513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34D8615-8F84-4799-A274-2789441D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867E811-2500-4A56-9AEC-3B0A91A6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FD25BDC-3EB0-42A1-BA96-51D9082B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04C2852-EFDD-4188-9FB4-F2F52CBA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E8A74C-0081-4DAB-8820-AD384C2F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A17DDA9-44DE-4058-BD17-F4A85363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499D4B3-6382-4C6D-8E05-23FBE91F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A3013D2-05DC-474B-8BD4-4C0B4649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F36BC7C-E2C3-4E9C-8994-7CC390BE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E2002C0-10ED-4968-ACC2-A3BBFFFF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49D4491-CEBD-4299-95BC-8CECFACD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D9B86C-3BA2-4BB6-A292-7D21F6F3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290DA6-8B81-4A52-ADD5-8E38C05A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93E22D3-5542-4A98-BDC9-FA8C9161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BB41D10-6BBE-4734-874A-95E2F4DF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8E0F58-AFE0-43F3-9B12-E418FE78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F87CBA6-C806-4EE9-82D4-5F6E4326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1F88FD2-69BF-436D-B3B1-60FDC9DC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43F3DA9-8120-4770-A6D2-7D7C808D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0CAE72F-BA61-4F44-BED3-4CA4DDDD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44CBA65-8602-4D47-B7D5-938E992B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CF19ED8-398F-46E0-B224-F2AD1385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A7A132F-F17E-444D-B4F1-E583BF0F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BC97F7D-A0B5-4C40-970F-58A66E72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FFC69CB-A4CD-4D03-80D8-FEF0DF2E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F1B0E00-FE06-4919-870E-6A152169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2454A1-C184-4415-BBF2-0204B9F9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EAAF73F-B955-40BB-9922-056CC327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2E6D145-DEAA-4156-BFB6-C3C3330D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47ECDDC-60E5-4EB5-9491-9B58B63B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7843FEE-AC9F-4CCD-9798-12898B42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31B324F-3E44-4A63-BBE0-163EDDCA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76AD1EE-2FF6-4229-B0C5-8BA17519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556AE79-029D-4334-AE13-2B288A68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A1BDB70-9F1D-433E-8902-F2520A47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541E0BF-A49D-4215-B9EE-3EC91183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C37EEBD-93B2-4483-B69F-9C599A45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4F7112-D55B-43A2-860F-3E963610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EE1C315-9F8D-40EE-8A56-3295C2CF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6E09CAD-43D1-47DD-B76A-D0C046AF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CEB70F5-0CDC-4CF9-A6A3-534C74CE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662B6AB-6FB6-4933-B85F-22A02031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EBF9CF1-A53E-4385-88E1-1660DD41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D5870E7-A546-4C5E-B26C-4274E9C0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FB5A638-3C46-4957-B7D7-4C9DA59A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FB70720-055B-4B48-8363-3CB1CDA2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256068-7C0A-4F09-8EC5-6BE56AA3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1A55631-E3C0-46B0-9A44-C2877C11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A4690C-4349-45CF-8326-285CF191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235D926-9AB3-47F3-90A8-1E841676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17FFA17-0F15-45EB-93CE-D145AA8B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9F4EAF0-6E35-4E44-9CC1-A1D82307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CB8F95D-158C-4361-BB98-2C3D9014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5D4B6BF-B1E4-44FF-B638-EC42C1B1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48A6854-9896-4D3C-BEC9-5CFF25DF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F8C33DE-6F45-49C0-AC89-0E891883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83BCF10-9A16-44EE-B6EE-3A1D3891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3DB2431-2D6B-4558-BF1B-198441F8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D2E3A25-77BD-4AAD-8B49-6A97BB06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6C20C2-BD0A-48CB-B7A7-86D51F3D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40D2B9B-A245-4637-A0F2-4815C9DA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7FA084C-2712-4BA7-8668-FCBF41A6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76F36C0-E8F0-415B-B9C0-195D9CAF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0A7C168-79C4-4EE5-B7BA-DBFB020A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48C96D7-9387-4098-8814-A9735CE5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873B9EE-92EC-4C62-9DCB-3409379D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ED4BF79-A595-43D6-9C4C-9CAB2765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D2DEBCA-677B-49B1-AC69-41C88653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76537C6-F870-4534-B923-5D163BD1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BDAE160-1B1F-40CD-9650-7305939D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A3C74-F766-4800-AFA0-B2FF7953BA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5FFA6F0-BA45-4083-8168-142DE184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1D15689-430C-4C7E-93B5-A0A7B7A1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5DAEAD8-F6B0-4440-A0BB-A8447727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C1411DE-63B9-4963-B4B3-37022DD7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70B8472-31EC-4BBE-BC85-828D3C39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7FDD3BA-AC1E-49C6-91F1-72A39496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3E4B2ED-D8D0-473E-BB50-0774575F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4F65175-5B4A-4A5B-BA72-8066E8C6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7482206-3FC8-4752-8C14-8CE036EA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9F03704-EB79-4C02-A94E-1AB27CC3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1B199-7E00-472B-A22D-AB833551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74056A7-9112-409D-8789-DDD8E158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913C198-D53B-421C-848A-5D64013D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D04E299-2959-4F9E-9AC8-00F52695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27F221C-EDCC-4C6F-90D0-2B3D4A3C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C00AEAD-7D09-4CD6-AF9B-67C46412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F6413EE-C3A4-4475-B475-B28888FB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B9C5F32-A2B1-4E25-914E-CF085B0B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474CFFF-2447-42C4-90C0-F3ADA6D8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FB58D6A-81C8-44EC-AC3D-A602032E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F43E928-2DEA-4106-AE3D-ACD8D70D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536A0-808D-461B-B6FA-F641A03A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6A0A3B3-B5C9-45E2-8642-FFA6573F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8ACE553-4A27-4BB0-BCD8-0F9BF86C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865D5EF-6E6A-4500-9955-1600D050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6E84932-7205-4DA1-BC97-364CA992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A77E603-2E14-4735-AA56-9D53AF7B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D915C04-9C86-443F-B438-AE8C9D67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83967D5-3A7E-491D-9F0D-4E033EA3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D72E7F4-AF3C-4BD8-BF87-A3C45909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D49A345-B4DE-4CE5-9DE8-990D1303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E5EA498-7023-4DB9-B0B4-BD154D2D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5FA3-E8DA-43B4-8628-F09B1D0997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931A3-0081-4909-9CD5-52E58EA9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93C7A61-923A-46CC-9B2F-A299BAE5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9AEA7F2-6E6D-474D-BE03-DEC5F2CD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FC685C3-5CCD-4ED3-8364-BEC97920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FE45EC1-492B-44E9-898E-974B02A0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D69EF93-B7F2-4F7E-B4C8-A3A0B336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E125070-233D-460A-9699-7E5A7C29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3046BFB-2D5F-40C1-BF0F-E6973D10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5E957B0-1F94-4A04-BD8F-891C342F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39EF682-F213-4569-A763-355F74D7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F1DDED4-5966-4099-82BA-AB10FDDC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BCDF-2850-4F2C-A5CB-27B6B8B3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38C5695-F230-4623-9889-2508D289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767E488-4948-47AF-8BF3-1F797E76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8BA21FE-8F3D-444E-A383-EDEC4FB4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912EEF3-A934-4C99-99EC-8B003579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3DF697A-CF2C-42D1-AB4F-14C99EB6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D5966A6-B100-4743-9ABB-283FC22A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5BB7B91-4E7B-45AC-AF2F-66CC091B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A9EBBD8-5897-4DE4-8C0A-115F656D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2492B39-1F8C-4ED8-8D27-4958A432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60520AA-FB2C-4884-AEBB-BB834902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435DB-C340-4567-BEF2-8DF55752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5122471-2176-45A8-A663-2E25AB32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A502D38-8F5C-4B95-9B66-F41863FD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CB349B6-2321-45CF-8C56-265BF6D4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BACDD9E-933C-4E2D-9655-604BDFF7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E67936D-FE2D-4F6F-BC99-94F0A07E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AAE7289-3864-48BD-9D0A-46722360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D128560-A100-47BE-86D5-5EA5F3A3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94BDD66-29AB-4F86-9666-3EFE4E1D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B24D33F-662D-499D-BE58-4AB6E03B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BD0258A-B5BC-48C2-8A77-26D19EFB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59D5A-7DF3-4807-AAEB-43FB6BC0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A944581-686B-4E07-9519-BB05CD4B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6C4E90B-1197-4EBC-9418-74D88BA3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C077E81-50D0-4D7E-8B23-515F72AE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0B8AC14-F65B-4DF5-A3B5-EDDF8E6D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21AF1DB-03A1-4DAF-980B-F5676CF8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B1AA606-889C-4EA7-BECE-8877DDA7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6AE23CB-A625-49B0-8381-D78EBC91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DE3F885-E9AC-425B-B98F-B55960B1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A2B9FBC-D26D-4C0F-9A23-5EB364DB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2F3C0F5-680A-4115-9B1E-BE6948B7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C9B66-14B3-4139-86AC-193A2A07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B4615B0-3866-4CFA-BFEE-B4E54BCD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7B9C33D-7557-4C0A-AF49-B7DEEBCF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7A52974-4665-4BD3-9137-DC7533D3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DC6BB13-A4DA-4101-8028-0A872507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7180211-E3E2-4A42-BD95-81D203FC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BE8AA85-F6BF-4A18-B2F7-A1C257BB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5E9640E-58AD-4086-851B-39D813DD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56C1DFA-0CAC-45BE-A796-A7777DCA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8632815-233C-493B-98C9-4E18E2DB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FAC495D-4D75-40EA-8C22-0B9531D9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14C91-37A0-4D17-94BF-B9B321B8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74EC535-D6B4-4E8A-AAE4-7CAE5495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99498D0-ECCD-4E72-87AC-150DE03F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EEA1D19-21BC-402C-9681-2F0EFAD9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52D59B6-EB3A-40DC-90FF-D185ED2B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B99D190-3F79-410E-B20C-81B9E19C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472FE1F-D3B3-4A0B-9307-CE4E472B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3AFD4BB-1407-4834-8EB8-039B019E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379674E-E74A-42C8-834B-72D220DB1E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6394E8E-1D1D-4282-AF64-57E4AAB2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BC614C5-173E-4A94-AB77-4DBC7B29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999E1-5879-4FE9-965A-0E13E4A9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5A58A19-0196-494D-AD73-DD6CC6CA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A78D50F-0022-44B2-8F75-2484FB67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2951FEE-EF96-4746-936F-72607ACC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99B5B02-DA08-4E90-9A35-3C36EF47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46B0895-649B-4437-A758-3DA69716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2D5F6EB-31EE-4239-A116-6CE268E5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18F6DC1-1309-44BD-91A9-0EC48248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7616343-E05A-4A2C-BFA3-16DE484D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0F2DDCF-B483-4980-A576-5538AD1577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54A47F-C7C9-4712-84C8-DC51CB8872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160E9-91A4-493B-B3FB-6C1AB50E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39ACC3-AD72-4BC8-8023-5C6D3F21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84FAFA-BDF6-4202-B2D5-32EA6D60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7614C1-55A4-4D1F-9B41-039F025A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38ABF7-CC05-4675-87A5-A2959601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22046A-DB5B-4D1F-ADBB-A8D74C0F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237A03-806B-4D9E-8B34-BFDC0081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C007A9-1725-4A54-B3FF-30CCBC9B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4183FC-1A69-4DDC-858A-EE881692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C1C704-1CB2-4182-B560-0A3AED46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46387C-C22A-4F2A-B2A4-D156704E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9A3B-BDEA-4C78-940D-B2534047E5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DB2143-3834-427D-8BE7-902D63BD86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A2B3EC3-C698-4FB9-B488-5A27E1F8B5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32045C1-F52B-4E81-9E4D-B59CA54A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B0473E8-1D2E-433D-98FF-956F50DB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59237A4-2604-4B82-AF2D-BB9063E9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86D2904-A481-4C78-BC5C-159EFE7B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D771865-7DFE-4345-B489-54EF233B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6FC9C7F-EE6E-4178-8867-7710286E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B748FCF-A8FD-4D2D-A3D5-20B12CCF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52EDEA0-F22D-4E88-9616-88C7D9F5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08EC0-E576-4E5B-BC8A-141C17CC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635D774-9C7C-4B93-85DD-195C8A99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B269E78-157A-4CFE-8006-3173AC59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ECD8EA0-EFD3-4C25-AD65-47DAF07A58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A06DD38-1672-4E2E-8611-D68D015405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A55A6AE-8D87-4AF5-B515-354D5908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024D84B-F0D1-4427-9B1B-7689246C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6D38BD2-B192-4057-B954-A169A4B6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6E3117A-C640-48F7-B891-0AC876E3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8D84DBA-F1F4-4977-9FF2-8C72F607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087485D-4F83-4679-8D76-EF5C9334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9078C-F58C-4E10-826C-1E5E9F5F9DF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10299-EBE2-43C4-8553-C33738EE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17EE6BD-74E5-4557-8F19-29712910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766E0F8-F16A-476C-9337-3C435A40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0E6D6BD-F111-49A2-9B87-9A089588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56702EB-C5C8-46BC-954D-6976DD4E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6635515-2B1C-4DAC-9EB2-CC00D1D812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50422D-319B-4796-8BF7-6CEA837105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68CCAD-7E67-489C-8619-4D311181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19433B-1B4F-4D72-8CAF-2EB1C4BE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46311E9-A7C9-4607-9503-DD101268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78457E-BACB-49EF-90F9-5BE8A49C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15A25-F9F8-49F3-A782-9DFD0D93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213E27-EE52-4F00-AF26-4EB49DF5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45FB3E-4A4F-426E-A5BB-4F738F8A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985B130-8A5F-46FF-B2EB-9CFCBEF6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469B99-B3B8-4718-B893-2739DA23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B04E50-DE93-4B69-87CC-55F41B61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C5D514-E18E-446A-A24A-ACB7EE9B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AB483A-CA86-415D-AB2C-7E656EB78F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679D57E-41FC-44D7-BC7C-9844129FB3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6787D5F-6C2E-43FC-AFAB-651F0458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EE73176-A025-4286-99B5-C5762947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845A9-511A-43DF-AF09-4E740CC4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30E34C9-B8DB-45A8-9372-AC06D99C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ADA5A04-710A-4B6D-880F-0B332419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AF1D419-14FE-4F20-BC53-5DECC3AB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E16F8DD-4B61-4FD6-8B41-772401FF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C8F8119-D74D-4E98-99E5-0136BAA1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E488F42-633B-437F-A962-88D23B70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B4B1866-60C9-4039-96DE-4422F5B2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30AB9DA-7FBB-41FD-9664-A60296EF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4BC05E5-829F-4BD6-98FB-2CBD2DF9DD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E2B6853-AED6-4338-8420-950704FA5E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9C392-000A-47D5-9956-129E52EF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8AD1FD2-70E2-4766-9CA1-6BB64AB5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4B17472-3F52-4CB8-92CB-B5482E80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F8BF083-EFE2-4409-88FB-F28488F6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4B4535E-DF5E-4C7D-B11C-A0575760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2D8AC92-D1B7-4BAC-84D0-2C0C3755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1A3E925-C8EA-4C15-BC58-CF2A44E7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6D8FAA0-FB3B-4C9C-8146-D33B5274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F429226-2D63-4B08-94F5-BB895D56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700695C-2B41-4347-9B43-2E499FF0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388A509-C1AD-4936-B353-B2739CB8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5EEAD-A494-46CC-8D96-C1E896F6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AC594FE-5854-40B3-8BE4-626FDD9F73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CE8BD3-9BBA-4634-9B5F-219286D536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7E5AE9-BED2-44EB-9B81-08EBE06F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EA19BD8-AACA-48F2-9521-A6509BF5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0D61ED3-9BEE-46FE-8CAE-06DB14C9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F60EEB-7F70-41ED-BA98-A359191D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69D6FEC-CD50-4514-9689-D025A814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9B344B-DF77-45D3-8E32-A616022E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C23131-6A13-45D9-B2D0-605E7E04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4519798-4A4A-464B-9E98-76BC78C8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2D3D4-358E-40BF-AC1F-22C13CFD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584D1B-A0BC-40F3-AAC5-6631B9C1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4D9A6ED-6A37-4D6C-BE6C-C68A50A8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FA749A-4BBB-40FC-9237-BB6880D461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EBFE656-A21E-47DC-996B-0FE3ABBEC7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F113263-1B27-4925-BBBD-3B086432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31CF019-0666-40A5-AA83-882DB6D4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E8D6314-56A8-416C-B1FD-954FED8C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5F0E5FD-E638-4CD3-BF25-93749957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B3FAA45-51ED-4740-B4D7-E655B6BE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F3B9E51-6FFB-4732-9A9A-AF7FDBE4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F161B-809F-4039-873A-2C5CA069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F6D10EE-2CCC-4376-87D2-12B94687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BD50040-1934-4F3F-9001-BADD28EA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0A76B9A-8ED3-4F82-A18E-CDBAAB25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513F8CE-72D1-4DD7-BBE4-B7BD836E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82E8E44-AB08-4358-BC18-C0E4C2505B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D061BAE-0917-4F70-85AE-9CB6FF56C8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144D009-B8EE-44D3-A6FF-0028B6A5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402D63B-8B17-4D48-BD28-B5BAB0DF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62120EE-B2AA-4C34-A7D4-7B50D7D4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F51F636-D05D-4CF3-A053-846D3A95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F170C-1F02-4620-A329-8132F429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8CBE76C-28CB-4E47-893C-A113D351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9A9510B-2BFC-4E5A-909D-2C6546C0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D51F44F-CB84-4819-8863-ED8404A9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6DF42C5-1EA7-41AE-B16B-C0D90021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B6CC8FE-B32F-492E-923D-951882B6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5C106EA-5CEF-4DF2-B77B-C2FB7A74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39927D3-EF96-473E-9E77-087543981F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12569B0-9039-4097-829C-68022CA9FE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998E47-A7F9-4F60-8EC5-AFA69796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9986ED6-4BCE-4E38-8159-0C11FE14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E0BEC-4E8F-4124-939E-F672C36D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DEDFFE-FFFF-4A97-AF5D-AB4F56A6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83C1FE-7FE4-4482-8FCD-267C413C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B731DF-D26B-475E-8B6C-840D278E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BB03167-C259-4910-A1BF-B83B0EBB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8846BBE-4B96-445A-A744-E65BFF4C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1A91F5A-9A22-4328-8C1B-1AB6EB03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211C74-3FF0-404C-9D0F-97D7349E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626E4E3-13D3-4819-9EC4-BB80B564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6E6EA8-CF62-480A-97DA-15A0C8607D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186299-5E68-4D1C-8FB1-209F9499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7126A-2A3E-41CA-8CDA-877EDB8A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020F358-0CFD-4284-A8CA-8C14FD29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0363DB3-BFE5-4F90-A41E-FCAB6F74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65F76FD-B1E2-46AA-B921-5DE377D7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13DC7F7-F1DD-42FE-B141-453C622F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7E222EE-D9A0-45E9-80A9-719B3075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EB4FB66-0AB7-47B8-830A-90E89B3A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8687382-2803-495C-A025-C733D154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C6755AC-ECC4-44D1-8F6E-D0566302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69578B0-7DDF-423A-B177-6D1963D9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4D5A43C-7D80-4342-AE9A-3A6D3A35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ABD7-4032-4F0E-B2CA-B3BC44276C4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06972-1A12-4944-B6EA-81CA6F3E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742D91A-A5EE-4D19-B142-09E5F5E2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C36C0CA-7666-4AB1-B3CA-A1855AFB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95A3D9F-4FFE-4902-B95B-D8A8748C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DDCA8A3-935E-4036-B7B9-7C6D386B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A070B0A-2079-4436-BA0F-6977284D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92F9B28-6CE2-435A-AC60-F42396F2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6DB1664-5BED-416E-AE9C-AAEE7566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F155470-9ACD-408A-9247-D450A446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68ED22C-5B3D-45B3-90E0-C7E37E88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6906B5D-3714-4EF9-AD94-CF0001D9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4BA311-2FEB-40B2-9A79-DD73D7C3D395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61B9C17-22B8-4CCC-A5D9-8D254F22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3CCC69A-1053-48BD-A991-ABDB64AF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EB490B3-4F20-413F-A653-C3700A47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43D314F-C35D-4CEA-8B7D-8B32B1D0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260502-8C38-49DA-BD8F-A0F00987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8EB6D69-881E-4A10-BCF8-57FC3800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FD18AA7-8110-47A0-84AA-77225A23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C2FA656-A4A0-4741-8436-1C0716DE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2F72ECD-D7A2-427A-BB67-EE253192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BCA1030-AF84-4245-9ADF-A8F2C294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F70156-CCFF-4BA5-AF23-20BAA309B766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4AE40E9-2C5E-4490-8473-08164EB6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266C1F6-C620-4B83-9476-F4949930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F4170F5-C44A-4475-876F-F613F384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7F26ED0-86C8-4B4C-B318-B12D76B9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C6B7E3E-A0B5-4B93-AD0E-CD94A7E7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5C798B6-6911-4EA6-BDFD-969D619D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DCBD766-DCCD-4C62-B66E-F3057B59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402E813-B5B2-4180-A5A5-853F7430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697ABF5-65E4-486F-A95C-7651DA93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EE13474-8007-494C-B4FF-F4E77136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9B8A32-F1C6-46F6-A681-E22441F04C44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D1E29E6-21DE-4273-94B0-D2862D46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2C79D9E-BC65-45E5-B7D0-87E6A0FB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DBCA533-D4D6-4D22-BFEC-C5BC01DE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3FB9B81-F74C-41FD-9ABC-BB0A7ED0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BCCF4CF-BAF6-4379-99E8-411032A5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7DE20BF-3435-4E88-B2A3-7EFB86CE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01CD547-B188-42FB-9B54-D6618D5A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F56DB31-0308-4BEF-A817-892E4C01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F08B6C5-7106-43D0-952C-D84BC5C8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EF07440-E313-44F2-9F7B-08B6D6CD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B2585D-271B-4086-8347-932ED4895B0F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008D4FF-82EA-4019-9227-02C133D1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8323473-B2D6-4B81-A202-27F5B3A1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F9E4C4-B60A-4A80-8858-DC12B439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D7C683E-4BDF-438A-9074-D020EE7F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68C5D92-2A24-4356-AC44-8E2538F4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4074A9E-9410-4AEB-B199-1C8A372D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1B9403D-BB73-41C3-8A7A-52566438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3C8E998-65DF-43AB-99AC-A6E0993D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90622EE-7AE5-43F8-81DF-BB743ABC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B8DBFC5-7D26-4405-B597-D2215A41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345D14-D9D1-4523-A8E3-63BD2CBC7FD5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F6F2ABD-2341-40D8-930A-3AF659C0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E78B14E-F227-41BF-B291-C914A008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C01CBC9-D9D4-4CC9-B73E-801301A8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9545BC6-0EB6-4C07-B50B-37D24A42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CEC6BCF-C5FF-4C36-B0FD-888999F8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22BFF3D-6DF3-4F82-B9F4-489B860E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995E1CE-0424-482E-BA41-C5EEC3FD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28CA91E-9B3A-4A2F-B018-F441CE32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060B0B6-8275-460A-BE35-DD045F0B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66BFEE4-63F4-4B02-9B59-D8C31FC3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344D83-BE41-434A-906C-4978F01F194D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42C950D-4AA7-4991-8D4A-6B5AF96A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7EDA05C-1A98-4BCB-BD20-CAC68557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1A2A2AB-2745-4487-834D-C4093548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5957403-8BC9-40A1-BFC8-0AE487DB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56D10B4-A280-446A-93D1-26E1191B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6EFD2D5-8771-4A2E-AEC4-C76A7EF8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9B549D7-19FA-4836-95D4-50244001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CBBABCF-9653-4E2C-B30A-4CC73F2B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3B3727D-3860-4943-B596-57A10223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A2D9164-1E80-4D8F-9ED7-962CF70E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AE2175-6874-431F-B12C-2D9747E4DBBE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C2036D2-0356-4DC2-A09D-FCCAB924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F28F884-2DFD-43E8-ACFF-3CFEDE96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8EEDAFA-AFF6-4896-8A79-68E55B26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3DC4299-FCEF-4F70-8EDC-11CCC216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7A18DFC-4E37-497F-9AC0-12D095EC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5F932B7-4717-4BC4-A6F8-C271800B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76D92AF-6196-4C8F-B4FE-46B4157D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F12371C-4184-4BFF-98A2-76692B3F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9C79F2A-FA37-4E79-A11F-EE2EF2BD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F4EFDD1-B312-48B7-A011-DA17CB79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D71483-7C47-4C57-96C9-E20283DB34C3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F9BA1DD-BBD9-4346-B608-AFC0527E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E3178BC-988A-44D2-9290-218F51A3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44A3762-F79E-4401-8659-F04AF9BC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AAD8B9A-2394-4308-B955-82706209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E109720-67B4-45FE-A4B1-1505681A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9352F4E-E319-4BA9-8A5D-8B346FAA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A6AF91B-098C-4035-BA8B-EE63097D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51C08FC-9840-4607-A067-C714A68F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A498B05-B26D-4833-8C26-8F2EFA4D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D89AEDB-D8F5-42AB-8D68-0B27FEF9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EC293A-6AE7-4A45-95D9-7FBA935A1F13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A454AED-482F-4C4C-83FB-639A9DCA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6FEC1CC-B8C5-40C2-BCDE-12719171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142DCB8-B592-4D3B-9D45-0AF84067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E186598-770D-404B-88A7-927CFEC0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23BABF9-3C76-4C7E-8D8D-FAFCC1FE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6FEECB0-1F63-4381-8C74-BA3D415E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4944CD2-5E0B-4673-A5C1-72ABB87C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366F499-27D7-4204-920C-75110783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DDE6D90-34DA-4E49-B6AE-90EE665F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4331DAE-59DF-4BE2-AD24-E132057F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B0C9-1AAE-4A2C-9888-EFCA70CFA64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C98BE0-BF9E-4A80-AEEF-BBB4F9A04EB7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D99A91A-D403-4451-9BAB-B2360553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365F199-BF01-4489-8C55-D99E5857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EAEDB1B-1D17-4230-AA26-75B777CC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83F13AC-40B7-449B-AA5E-CE7E0F0B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38580AD-79B6-4B33-B213-EC5EF716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8CDCBDB-239C-4D9A-A587-F7A8F558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1B00473-DA90-4AB7-AD3A-569B19FD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06937CC-5A6A-48A3-8970-7BF66517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34E56BB-81C8-4B45-B57C-DF84CB8D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7271B95-AE33-467E-9E08-59367A06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6A3C93-8E8A-42D6-8E76-22D913183E5B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9144197-192B-4C4B-A724-C7A18EE4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3271891-8ED5-476B-AB37-4C722C2E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1E8E37E-3A9A-4100-9904-AC11E790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27F64F4-64B5-4DEC-94DF-42CDA3AF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5E69F61-3F1E-4CFE-964E-29EFBDD9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D13761C-8514-4321-ABDF-9D4935B3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272B907-36D5-4C18-9D17-CD13192D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3FE743E-940B-4047-9B00-9D6194DB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C6577D2-1A31-4B24-B49F-B86674AD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C1B683D-F3F5-46F0-BB2E-D82AF68E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B5C6A8-9492-4427-A7D0-C5112D3F794C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92ADDAF-B837-4282-A3CA-D4D0A8F0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FCBDFB-C9DA-4696-A6F3-C7AE8E99C88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26C92F-1CEA-4992-94D7-4A2DACB7351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707F3-FD44-4A60-BBEF-CC9E29E0D71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D1DA4E-8F51-4C87-B07A-4E3FF425EB0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D7B52F-ED01-4BC0-ABC6-32280E63162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3D0B8-0970-42C4-8E1D-327112048B1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B5608E-CC6F-4FD4-8512-0A4700D18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F287-7C63-4F0F-B25F-5826952F711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113727-F5DF-4869-9850-5C9D22B587B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CF5BD-2F17-4807-BF56-D35821F532C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3D08A-423F-4136-9757-A9DCD86681F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CC8B10-C5BC-4FAB-AF66-EA56CA7E375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3A6876-3FE1-460A-8F27-216BF61682D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AD6EE-AAE3-416D-BFE9-C71DBCA10A1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C35AA-9D6D-4B7A-B309-739AAA95A11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2CD25-1F42-4FEC-88EA-2780E2C3200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DFA08-C96D-4976-93BE-6902976CF73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358D8-DD55-4748-A3FD-B2BB948B8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EF6C-1DC0-4EB8-8B5A-4EA8E0BABE8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1CE70-2A9F-4C38-989F-1E60D37AE28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5B252-81B4-4497-ABD5-EEC0441442A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C47BA-D9FA-4F8C-9C55-2E06BCA8226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7C194-038D-4CAD-BF51-8B5E601977D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CA011-80FB-4A4E-8B2B-20EAA0CA3EE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792C2-2AC4-431F-8731-74CAB40211D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11330-EC41-47D3-B1C5-A65EF271A40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4D999C-9354-48D0-B360-0CF1FE95593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CE178E-12BC-4D4B-9A28-33D84899005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CCF8FB-EE14-4B1D-830A-2FE83296E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F373-09F5-47AF-B4F2-4FF8AA1D6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16" descr="dog0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003640" y="2852640"/>
            <a:ext cx="4087800" cy="4016520"/>
          </a:xfrm>
          <a:prstGeom prst="rect">
            <a:avLst/>
          </a:prstGeom>
          <a:ln w="0">
            <a:noFill/>
          </a:ln>
        </p:spPr>
      </p:pic>
      <p:sp>
        <p:nvSpPr>
          <p:cNvPr id="3" name="Line 8"/>
          <p:cNvSpPr/>
          <p:nvPr/>
        </p:nvSpPr>
        <p:spPr>
          <a:xfrm>
            <a:off x="395280" y="836640"/>
            <a:ext cx="8229600" cy="0"/>
          </a:xfrm>
          <a:prstGeom prst="line">
            <a:avLst/>
          </a:prstGeom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7242840" y="653904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责任  品质  诚信  创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内容占位符 6" descr=""/>
          <p:cNvPicPr/>
          <p:nvPr/>
        </p:nvPicPr>
        <p:blipFill>
          <a:blip r:embed="rId3"/>
          <a:stretch/>
        </p:blipFill>
        <p:spPr>
          <a:xfrm>
            <a:off x="393840" y="115920"/>
            <a:ext cx="2377800" cy="720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ww.TimeBook.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7603200" y="652464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责任  品质  诚信  创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2"/>
          <p:cNvGrpSpPr/>
          <p:nvPr/>
        </p:nvGrpSpPr>
        <p:grpSpPr>
          <a:xfrm>
            <a:off x="324000" y="836640"/>
            <a:ext cx="6911640" cy="1296720"/>
            <a:chOff x="324000" y="836640"/>
            <a:chExt cx="6911640" cy="1296720"/>
          </a:xfrm>
        </p:grpSpPr>
        <p:sp>
          <p:nvSpPr>
            <p:cNvPr id="9" name="Oval 3"/>
            <p:cNvSpPr/>
            <p:nvPr/>
          </p:nvSpPr>
          <p:spPr>
            <a:xfrm>
              <a:off x="324000" y="1011240"/>
              <a:ext cx="1185480" cy="1122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4"/>
            <p:cNvSpPr/>
            <p:nvPr/>
          </p:nvSpPr>
          <p:spPr>
            <a:xfrm>
              <a:off x="1311120" y="1004760"/>
              <a:ext cx="60588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5"/>
            <p:cNvSpPr/>
            <p:nvPr/>
          </p:nvSpPr>
          <p:spPr>
            <a:xfrm>
              <a:off x="1851120" y="941400"/>
              <a:ext cx="60624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6"/>
            <p:cNvSpPr/>
            <p:nvPr/>
          </p:nvSpPr>
          <p:spPr>
            <a:xfrm>
              <a:off x="2320920" y="941400"/>
              <a:ext cx="788760" cy="6858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7"/>
            <p:cNvSpPr/>
            <p:nvPr/>
          </p:nvSpPr>
          <p:spPr>
            <a:xfrm>
              <a:off x="3051360" y="941400"/>
              <a:ext cx="6537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8"/>
            <p:cNvSpPr/>
            <p:nvPr/>
          </p:nvSpPr>
          <p:spPr>
            <a:xfrm>
              <a:off x="3482640" y="836640"/>
              <a:ext cx="6537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9"/>
            <p:cNvSpPr/>
            <p:nvPr/>
          </p:nvSpPr>
          <p:spPr>
            <a:xfrm>
              <a:off x="4002120" y="941400"/>
              <a:ext cx="6519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4327920" y="836640"/>
              <a:ext cx="6519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4832640" y="1039680"/>
              <a:ext cx="6519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5307480" y="941400"/>
              <a:ext cx="8301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6018480" y="836640"/>
              <a:ext cx="83160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6820200" y="941400"/>
              <a:ext cx="415440" cy="455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4E76-B6FD-4750-8524-8C2074709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D7D8-103A-4BD8-B271-BEEA16CD6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C969-63BE-463B-A797-EDC55F6C8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A248-4F20-46E7-95AF-4CD9BB730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171C-86BC-457C-A9FF-22769A112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F3AD-38F6-4BB4-BC3F-B29A96501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3486-D674-4AB8-9286-68CF9E52B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组合 31745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668" name="椭圆 31746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椭圆 3174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椭圆 31748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椭圆 31749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椭圆 3175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椭圆 31751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4" name="内容占位符 6" descr=""/>
          <p:cNvPicPr/>
          <p:nvPr/>
        </p:nvPicPr>
        <p:blipFill>
          <a:blip r:embed="rId2"/>
          <a:stretch/>
        </p:blipFill>
        <p:spPr>
          <a:xfrm>
            <a:off x="393840" y="115920"/>
            <a:ext cx="2377800" cy="72072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6F77-7487-4B1C-AE35-56249AF5B0E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B765-4288-45B2-856C-3A6C742380E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CAA8-B724-4A31-B4B1-A16D0B28C18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3072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3072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59" name="椭圆 3072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3072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3072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3072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3072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494B-153D-4191-B390-30F16E36838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内容占位符 6" descr=""/>
          <p:cNvPicPr/>
          <p:nvPr/>
        </p:nvPicPr>
        <p:blipFill>
          <a:blip r:embed="rId3"/>
          <a:stretch/>
        </p:blipFill>
        <p:spPr>
          <a:xfrm>
            <a:off x="393840" y="115920"/>
            <a:ext cx="237780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38D2-6090-4768-836F-936B3D3E886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588A-4A36-4A24-8442-1862AED8BA0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EF34-284F-4C22-905D-923C8FA86AD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78FF-7755-498E-801E-81A2A909130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7C68-E7BA-4218-9874-6714C71AB95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927F-A4A3-4A56-92C4-B4A40AAF599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7BDF-2627-4CD2-A7FA-8802C2D48E4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8072-0EFD-414A-9129-40DF25D94E2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127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dt" idx="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ftr" idx="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sldNum" idx="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5E04-2303-4132-829E-C587E107B1A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dt" idx="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sldNum" idx="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C157-B637-4328-8907-BA029F00061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07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08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40F8-42E1-46A9-91F5-CFD01539EC3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ftr" idx="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sldNum" idx="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328B-D8D2-4168-B3E6-BA0C952B839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6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sldNum" idx="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5075-50A9-4C48-8405-F21440D8E7A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ED0E-FEA7-47E8-A98F-B757232E06F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7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7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239A-966C-4252-BC0B-248BE23930B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 type="dt" idx="7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 type="ftr" idx="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 type="sldNum" idx="7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9B4A-28B5-409A-AA2A-2896869902F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 type="dt" idx="7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 type="ftr" idx="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 type="sldNum" idx="8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B146-14BD-4FD5-8096-F2B0220FA33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 type="dt" idx="8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 type="ftr" idx="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 type="sldNum" idx="8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5B79-FC82-4CA5-AC57-BDC6DD49332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8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5F46-3183-47F8-898E-7380E07E8D0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8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8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81B2-F971-4844-A747-A4ED333ACAE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dt" idx="9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sldNum" idx="9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BE28-77F8-40DC-B85A-75321765CF7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5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E162-BE59-423E-B33D-B2F81946DAD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 type="dt" idx="9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9737-1F40-4703-9391-0C32A5FC95A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 type="sldNum" idx="9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B1F4-63EC-433F-932B-AA61D502008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 type="dt" idx="9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 type="sldNum" idx="9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F25A-6B0C-4399-9CEB-73CC1737F57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 type="dt" idx="9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 type="sldNum" idx="9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AF5E-2872-4811-AC28-1C873359CA6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 type="dt" idx="10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 type="sldNum" idx="10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47BC-D49E-4633-978F-4C22AADB3E5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 type="dt" idx="10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 type="sldNum" idx="10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B441-BD84-489F-9C4A-86F11A4C735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 type="dt" idx="10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44E4-9F2C-4386-AFE3-D5E51306649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 type="sldNum" idx="10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9179-4851-4D93-AB6F-720213ACE3A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 type="dt" idx="10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 type="sldNum" idx="10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ABBA-EAD1-4F64-AD38-982332DD526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 type="dt" idx="1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399B-CA47-455A-B28F-C6609BC5E64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202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03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1B85-085C-4AFE-9807-C834DC32ED5F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 type="dt" idx="1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 type="ftr" idx="11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736D-D2B5-457F-BD01-CE922AF85894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 type="ftr" idx="11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5EA6-B8AA-4EDF-9E81-297DF26BF560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 type="dt" idx="1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 type="ftr" idx="11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18C9-C0DE-495F-ABAF-D6985DE5EAA0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 type="ftr" idx="12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AC43-523F-4715-994A-764A8723F740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12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2525-8321-479E-A177-CF0AA6DAC9D3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 type="dt" idx="1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 type="ftr" idx="12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E8EE-1B52-4311-B35E-0E6FDDCB4432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 type="ftr" idx="13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8D98-E263-4B2D-BCB3-979AB12A2477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 type="ftr" idx="13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176A-0096-4404-9299-984737A77396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 type="ftr" idx="13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4733-EF43-473C-BC2B-28A6463FB843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 type="ftr" idx="14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9EC4-239B-4483-957B-5B030A1ED53D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8757-8C2E-4A96-BB27-2A980AC08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4"/>
          <p:cNvSpPr>
            <a:spLocks noGrp="1"/>
          </p:cNvSpPr>
          <p:nvPr>
            <p:ph type="ftr" idx="14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0146-F805-4586-A42E-80534C14C05D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E167-B179-4C1B-AECC-7D72A08F3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D022-5EA0-4279-BBF2-A1477517D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6E70-6AA0-41ED-A529-08CE5B559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AutoShape 8"/>
          <p:cNvSpPr/>
          <p:nvPr/>
        </p:nvSpPr>
        <p:spPr>
          <a:xfrm>
            <a:off x="8736120" y="208584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AutoShape 13"/>
          <p:cNvSpPr/>
          <p:nvPr/>
        </p:nvSpPr>
        <p:spPr>
          <a:xfrm>
            <a:off x="8367840" y="141300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AutoShape 10"/>
          <p:cNvSpPr/>
          <p:nvPr/>
        </p:nvSpPr>
        <p:spPr>
          <a:xfrm>
            <a:off x="507960" y="368928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AutoShape 11"/>
          <p:cNvSpPr/>
          <p:nvPr/>
        </p:nvSpPr>
        <p:spPr>
          <a:xfrm>
            <a:off x="210960" y="3392640"/>
            <a:ext cx="297000" cy="296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AutoShape 12"/>
          <p:cNvSpPr/>
          <p:nvPr/>
        </p:nvSpPr>
        <p:spPr>
          <a:xfrm>
            <a:off x="108000" y="4159080"/>
            <a:ext cx="206280" cy="20664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0" name="Group 5"/>
          <p:cNvGrpSpPr/>
          <p:nvPr/>
        </p:nvGrpSpPr>
        <p:grpSpPr>
          <a:xfrm>
            <a:off x="2367720" y="3889440"/>
            <a:ext cx="890640" cy="757080"/>
            <a:chOff x="2367720" y="3889440"/>
            <a:chExt cx="890640" cy="757080"/>
          </a:xfrm>
        </p:grpSpPr>
        <p:sp>
          <p:nvSpPr>
            <p:cNvPr id="2481" name="AutoShape 6"/>
            <p:cNvSpPr/>
            <p:nvPr/>
          </p:nvSpPr>
          <p:spPr>
            <a:xfrm rot="720000">
              <a:off x="2422080" y="3963960"/>
              <a:ext cx="781200" cy="608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AutoShape 7"/>
            <p:cNvSpPr/>
            <p:nvPr/>
          </p:nvSpPr>
          <p:spPr>
            <a:xfrm rot="720000">
              <a:off x="2442600" y="3983040"/>
              <a:ext cx="737280" cy="55764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问题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3" name="Group 8"/>
          <p:cNvGrpSpPr/>
          <p:nvPr/>
        </p:nvGrpSpPr>
        <p:grpSpPr>
          <a:xfrm>
            <a:off x="3699000" y="3969360"/>
            <a:ext cx="813240" cy="692640"/>
            <a:chOff x="3699000" y="3969360"/>
            <a:chExt cx="813240" cy="692640"/>
          </a:xfrm>
        </p:grpSpPr>
        <p:sp>
          <p:nvSpPr>
            <p:cNvPr id="2484" name="AutoShape 9"/>
            <p:cNvSpPr/>
            <p:nvPr/>
          </p:nvSpPr>
          <p:spPr>
            <a:xfrm rot="120000">
              <a:off x="3710160" y="3982680"/>
              <a:ext cx="790560" cy="6652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AutoShape 10"/>
            <p:cNvSpPr/>
            <p:nvPr/>
          </p:nvSpPr>
          <p:spPr>
            <a:xfrm rot="120000">
              <a:off x="3729600" y="4004280"/>
              <a:ext cx="746280" cy="60984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探究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6" name="Group 11"/>
          <p:cNvGrpSpPr/>
          <p:nvPr/>
        </p:nvGrpSpPr>
        <p:grpSpPr>
          <a:xfrm>
            <a:off x="4965480" y="3875040"/>
            <a:ext cx="868680" cy="667800"/>
            <a:chOff x="4965480" y="3875040"/>
            <a:chExt cx="868680" cy="667800"/>
          </a:xfrm>
        </p:grpSpPr>
        <p:sp>
          <p:nvSpPr>
            <p:cNvPr id="2487" name="AutoShape 12"/>
            <p:cNvSpPr/>
            <p:nvPr/>
          </p:nvSpPr>
          <p:spPr>
            <a:xfrm rot="21060000">
              <a:off x="5003640" y="3933360"/>
              <a:ext cx="792360" cy="5508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AutoShape 13"/>
            <p:cNvSpPr/>
            <p:nvPr/>
          </p:nvSpPr>
          <p:spPr>
            <a:xfrm rot="21060000">
              <a:off x="5022000" y="3951720"/>
              <a:ext cx="747720" cy="50508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练习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9" name="Group 14"/>
          <p:cNvGrpSpPr/>
          <p:nvPr/>
        </p:nvGrpSpPr>
        <p:grpSpPr>
          <a:xfrm>
            <a:off x="6146640" y="3777840"/>
            <a:ext cx="954720" cy="840240"/>
            <a:chOff x="6146640" y="3777840"/>
            <a:chExt cx="954720" cy="840240"/>
          </a:xfrm>
        </p:grpSpPr>
        <p:sp>
          <p:nvSpPr>
            <p:cNvPr id="2490" name="AutoShape 15"/>
            <p:cNvSpPr/>
            <p:nvPr/>
          </p:nvSpPr>
          <p:spPr>
            <a:xfrm rot="20220000">
              <a:off x="6227640" y="3909600"/>
              <a:ext cx="792360" cy="57636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AutoShape 16"/>
            <p:cNvSpPr/>
            <p:nvPr/>
          </p:nvSpPr>
          <p:spPr>
            <a:xfrm rot="20220000">
              <a:off x="6245280" y="3929760"/>
              <a:ext cx="747720" cy="52848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拓展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2" name="TextBox 15"/>
          <p:cNvSpPr/>
          <p:nvPr/>
        </p:nvSpPr>
        <p:spPr>
          <a:xfrm>
            <a:off x="7524720" y="4202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矩形 24"/>
          <p:cNvSpPr/>
          <p:nvPr/>
        </p:nvSpPr>
        <p:spPr>
          <a:xfrm>
            <a:off x="2268360" y="1484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教版六年级上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矩形 25"/>
          <p:cNvSpPr/>
          <p:nvPr/>
        </p:nvSpPr>
        <p:spPr>
          <a:xfrm>
            <a:off x="2340000" y="2924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时：百分数、扇形统计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6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757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9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770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771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2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3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4" name="Rectangle 2"/>
          <p:cNvSpPr/>
          <p:nvPr/>
        </p:nvSpPr>
        <p:spPr>
          <a:xfrm>
            <a:off x="4859280" y="1557360"/>
            <a:ext cx="388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六年级有学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6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，已达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家体育锻炼标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，占六年级人数的百分之几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Rectangle 3"/>
          <p:cNvSpPr/>
          <p:nvPr/>
        </p:nvSpPr>
        <p:spPr>
          <a:xfrm>
            <a:off x="2743200" y="227664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Text Box 4"/>
          <p:cNvSpPr/>
          <p:nvPr/>
        </p:nvSpPr>
        <p:spPr>
          <a:xfrm>
            <a:off x="5178600" y="3338640"/>
            <a:ext cx="33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0÷160=0.75=75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Text Box 5"/>
          <p:cNvSpPr/>
          <p:nvPr/>
        </p:nvSpPr>
        <p:spPr>
          <a:xfrm>
            <a:off x="5503680" y="4724280"/>
            <a:ext cx="276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答：占六年级的学生人数的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5%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Rectangle 2"/>
          <p:cNvSpPr/>
          <p:nvPr/>
        </p:nvSpPr>
        <p:spPr>
          <a:xfrm>
            <a:off x="468360" y="1628640"/>
            <a:ext cx="424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六年级有学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6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，已达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家体育锻炼标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，占六年级学生人数的几分之几？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Rectangle 3"/>
          <p:cNvSpPr/>
          <p:nvPr/>
        </p:nvSpPr>
        <p:spPr>
          <a:xfrm>
            <a:off x="779400" y="3375000"/>
            <a:ext cx="21733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0÷160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Text Box 5"/>
          <p:cNvSpPr/>
          <p:nvPr/>
        </p:nvSpPr>
        <p:spPr>
          <a:xfrm>
            <a:off x="2192400" y="337644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Text Box 6"/>
          <p:cNvSpPr/>
          <p:nvPr/>
        </p:nvSpPr>
        <p:spPr>
          <a:xfrm>
            <a:off x="2627280" y="321300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6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Line 7"/>
          <p:cNvSpPr/>
          <p:nvPr/>
        </p:nvSpPr>
        <p:spPr>
          <a:xfrm>
            <a:off x="2592360" y="35607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Text Box 8"/>
          <p:cNvSpPr/>
          <p:nvPr/>
        </p:nvSpPr>
        <p:spPr>
          <a:xfrm>
            <a:off x="2181240" y="402444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Text Box 9"/>
          <p:cNvSpPr/>
          <p:nvPr/>
        </p:nvSpPr>
        <p:spPr>
          <a:xfrm>
            <a:off x="2874960" y="3860640"/>
            <a:ext cx="36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Line 10"/>
          <p:cNvSpPr/>
          <p:nvPr/>
        </p:nvSpPr>
        <p:spPr>
          <a:xfrm>
            <a:off x="2665440" y="4208400"/>
            <a:ext cx="681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6" name="组合 13343"/>
          <p:cNvGrpSpPr/>
          <p:nvPr/>
        </p:nvGrpSpPr>
        <p:grpSpPr>
          <a:xfrm>
            <a:off x="258840" y="4737240"/>
            <a:ext cx="4037040" cy="703800"/>
            <a:chOff x="258840" y="4737240"/>
            <a:chExt cx="4037040" cy="703800"/>
          </a:xfrm>
        </p:grpSpPr>
        <p:sp>
          <p:nvSpPr>
            <p:cNvPr id="2787" name="Text Box 11"/>
            <p:cNvSpPr/>
            <p:nvPr/>
          </p:nvSpPr>
          <p:spPr>
            <a:xfrm>
              <a:off x="258840" y="4869360"/>
              <a:ext cx="403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答：占六年级人数的           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8" name="组合 13345"/>
            <p:cNvGrpSpPr/>
            <p:nvPr/>
          </p:nvGrpSpPr>
          <p:grpSpPr>
            <a:xfrm>
              <a:off x="2610360" y="4737240"/>
              <a:ext cx="595800" cy="703800"/>
              <a:chOff x="2610360" y="4737240"/>
              <a:chExt cx="595800" cy="703800"/>
            </a:xfrm>
          </p:grpSpPr>
          <p:sp>
            <p:nvSpPr>
              <p:cNvPr id="2789" name="Line 13"/>
              <p:cNvSpPr/>
              <p:nvPr/>
            </p:nvSpPr>
            <p:spPr>
              <a:xfrm>
                <a:off x="2610360" y="5085000"/>
                <a:ext cx="59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Text Box 9"/>
              <p:cNvSpPr/>
              <p:nvPr/>
            </p:nvSpPr>
            <p:spPr>
              <a:xfrm>
                <a:off x="2767680" y="4737240"/>
                <a:ext cx="365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91" name="直接连接符 35"/>
          <p:cNvSpPr/>
          <p:nvPr/>
        </p:nvSpPr>
        <p:spPr>
          <a:xfrm flipH="1">
            <a:off x="4642920" y="1557360"/>
            <a:ext cx="73080" cy="446400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500"/>
                                        <p:tgtEl>
                                          <p:spTgt spid="2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500"/>
                                        <p:tgtEl>
                                          <p:spTgt spid="2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2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500"/>
                                        <p:tgtEl>
                                          <p:spTgt spid="2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2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2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2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2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793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5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806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807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8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9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0" name="Text Box 4"/>
          <p:cNvSpPr/>
          <p:nvPr/>
        </p:nvSpPr>
        <p:spPr>
          <a:xfrm>
            <a:off x="1495440" y="2637000"/>
            <a:ext cx="449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相同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隶书"/>
              </a:rPr>
              <a:t>数量关系和解题方法完全相同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Text Box 5"/>
          <p:cNvSpPr/>
          <p:nvPr/>
        </p:nvSpPr>
        <p:spPr>
          <a:xfrm>
            <a:off x="436680" y="1844640"/>
            <a:ext cx="80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分数应用题与百分数应用题的相同点和不同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Text Box 6"/>
          <p:cNvSpPr/>
          <p:nvPr/>
        </p:nvSpPr>
        <p:spPr>
          <a:xfrm>
            <a:off x="826920" y="393372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不同点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百分数应用题的数量关系用百分数表示，分数应用题的数量关系用分数表示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3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814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6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827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828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9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0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1" name="Rectangle 2"/>
          <p:cNvSpPr/>
          <p:nvPr/>
        </p:nvSpPr>
        <p:spPr>
          <a:xfrm>
            <a:off x="539640" y="1557360"/>
            <a:ext cx="8425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李平家用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千克稻谷碾出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420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千克大米，他家稻谷的出米率是多少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Text Box 5"/>
          <p:cNvSpPr/>
          <p:nvPr/>
        </p:nvSpPr>
        <p:spPr>
          <a:xfrm>
            <a:off x="395280" y="31417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稻谷的出米率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Text Box 6"/>
          <p:cNvSpPr/>
          <p:nvPr/>
        </p:nvSpPr>
        <p:spPr>
          <a:xfrm>
            <a:off x="3348000" y="2835360"/>
            <a:ext cx="249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大米的重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稻谷的重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7"/>
          <p:cNvSpPr/>
          <p:nvPr/>
        </p:nvSpPr>
        <p:spPr>
          <a:xfrm>
            <a:off x="3276720" y="335772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Text Box 8"/>
          <p:cNvSpPr/>
          <p:nvPr/>
        </p:nvSpPr>
        <p:spPr>
          <a:xfrm>
            <a:off x="6384240" y="3068640"/>
            <a:ext cx="12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100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Text Box 9"/>
          <p:cNvSpPr/>
          <p:nvPr/>
        </p:nvSpPr>
        <p:spPr>
          <a:xfrm>
            <a:off x="2556000" y="4003560"/>
            <a:ext cx="3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Text Box 10"/>
          <p:cNvSpPr/>
          <p:nvPr/>
        </p:nvSpPr>
        <p:spPr>
          <a:xfrm>
            <a:off x="3346560" y="364500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Text Box 11"/>
          <p:cNvSpPr/>
          <p:nvPr/>
        </p:nvSpPr>
        <p:spPr>
          <a:xfrm>
            <a:off x="3351960" y="421956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Line 12"/>
          <p:cNvSpPr/>
          <p:nvPr/>
        </p:nvSpPr>
        <p:spPr>
          <a:xfrm>
            <a:off x="3346560" y="429264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Text Box 13"/>
          <p:cNvSpPr/>
          <p:nvPr/>
        </p:nvSpPr>
        <p:spPr>
          <a:xfrm>
            <a:off x="4582440" y="3860640"/>
            <a:ext cx="12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100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Text Box 14"/>
          <p:cNvSpPr/>
          <p:nvPr/>
        </p:nvSpPr>
        <p:spPr>
          <a:xfrm>
            <a:off x="2556000" y="4940280"/>
            <a:ext cx="3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Text Box 15"/>
          <p:cNvSpPr/>
          <p:nvPr/>
        </p:nvSpPr>
        <p:spPr>
          <a:xfrm>
            <a:off x="3352680" y="48690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0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Text Box 22"/>
          <p:cNvSpPr/>
          <p:nvPr/>
        </p:nvSpPr>
        <p:spPr>
          <a:xfrm>
            <a:off x="4172400" y="5516640"/>
            <a:ext cx="35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答：他家稻谷的出米率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0%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2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4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845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7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858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859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0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1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2" name="Rectangle 2"/>
          <p:cNvSpPr/>
          <p:nvPr/>
        </p:nvSpPr>
        <p:spPr>
          <a:xfrm>
            <a:off x="538200" y="2205000"/>
            <a:ext cx="345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Garamond"/>
                <a:ea typeface="宋体"/>
              </a:rPr>
              <a:t>小麦的</a:t>
            </a:r>
            <a:r>
              <a:rPr b="1" lang="zh-CN" sz="3600" spc="-1" strike="noStrike">
                <a:solidFill>
                  <a:srgbClr val="d9d8ec"/>
                </a:solidFill>
                <a:latin typeface="Garamond"/>
                <a:ea typeface="宋体"/>
              </a:rPr>
              <a:t>出粉率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Text Box 4"/>
          <p:cNvSpPr/>
          <p:nvPr/>
        </p:nvSpPr>
        <p:spPr>
          <a:xfrm>
            <a:off x="3851280" y="1878120"/>
            <a:ext cx="24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9d8ec"/>
                </a:solidFill>
                <a:latin typeface="Arial"/>
                <a:ea typeface="宋体"/>
              </a:rPr>
              <a:t>面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的重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小麦的重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Line 5"/>
          <p:cNvSpPr/>
          <p:nvPr/>
        </p:nvSpPr>
        <p:spPr>
          <a:xfrm>
            <a:off x="3922560" y="25257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Text Box 6"/>
          <p:cNvSpPr/>
          <p:nvPr/>
        </p:nvSpPr>
        <p:spPr>
          <a:xfrm>
            <a:off x="6415560" y="216684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100%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Text Box 7"/>
          <p:cNvSpPr/>
          <p:nvPr/>
        </p:nvSpPr>
        <p:spPr>
          <a:xfrm>
            <a:off x="1028880" y="3571920"/>
            <a:ext cx="220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产品的</a:t>
            </a:r>
            <a:r>
              <a:rPr b="1" lang="zh-CN" sz="3600" spc="-1" strike="noStrike">
                <a:solidFill>
                  <a:srgbClr val="d9d8ec"/>
                </a:solidFill>
                <a:latin typeface="Arial"/>
                <a:ea typeface="宋体"/>
              </a:rPr>
              <a:t>合格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Text Box 8"/>
          <p:cNvSpPr/>
          <p:nvPr/>
        </p:nvSpPr>
        <p:spPr>
          <a:xfrm>
            <a:off x="4257000" y="328464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9d8ec"/>
                </a:solidFill>
                <a:latin typeface="Arial"/>
                <a:ea typeface="宋体"/>
              </a:rPr>
              <a:t>合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的产品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产品的总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Line 9"/>
          <p:cNvSpPr/>
          <p:nvPr/>
        </p:nvSpPr>
        <p:spPr>
          <a:xfrm>
            <a:off x="3851280" y="39322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Text Box 11"/>
          <p:cNvSpPr/>
          <p:nvPr/>
        </p:nvSpPr>
        <p:spPr>
          <a:xfrm>
            <a:off x="6560280" y="3571920"/>
            <a:ext cx="161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100%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Text Box 12"/>
          <p:cNvSpPr/>
          <p:nvPr/>
        </p:nvSpPr>
        <p:spPr>
          <a:xfrm>
            <a:off x="538200" y="5156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学生的</a:t>
            </a:r>
            <a:r>
              <a:rPr b="1" lang="zh-CN" sz="3600" spc="-1" strike="noStrike">
                <a:solidFill>
                  <a:srgbClr val="d9d8ec"/>
                </a:solidFill>
                <a:latin typeface="Arial"/>
                <a:ea typeface="宋体"/>
              </a:rPr>
              <a:t>出勤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Text Box 13"/>
          <p:cNvSpPr/>
          <p:nvPr/>
        </p:nvSpPr>
        <p:spPr>
          <a:xfrm>
            <a:off x="4473000" y="479736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9d8ec"/>
                </a:solidFill>
                <a:latin typeface="Arial"/>
                <a:ea typeface="宋体"/>
              </a:rPr>
              <a:t>实际出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人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应出勤人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Line 14"/>
          <p:cNvSpPr/>
          <p:nvPr/>
        </p:nvSpPr>
        <p:spPr>
          <a:xfrm>
            <a:off x="3922560" y="54450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Text Box 15"/>
          <p:cNvSpPr/>
          <p:nvPr/>
        </p:nvSpPr>
        <p:spPr>
          <a:xfrm>
            <a:off x="6920640" y="5084640"/>
            <a:ext cx="161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100%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4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875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7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888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889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0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1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2" name="Text Box 19"/>
          <p:cNvSpPr/>
          <p:nvPr/>
        </p:nvSpPr>
        <p:spPr>
          <a:xfrm>
            <a:off x="1726200" y="1484280"/>
            <a:ext cx="590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王叔叔家六月份用电量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度（千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）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七月份比六月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节约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王叔叔家七月份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电量是多少度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Text Box 20"/>
          <p:cNvSpPr/>
          <p:nvPr/>
        </p:nvSpPr>
        <p:spPr>
          <a:xfrm>
            <a:off x="2120400" y="2997360"/>
            <a:ext cx="45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单位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  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六月份的用电量  </a:t>
            </a:r>
            <a:r>
              <a:rPr b="1" lang="en-US" sz="2800" spc="-1" strike="noStrike">
                <a:solidFill>
                  <a:srgbClr val="0066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已知量</a:t>
            </a:r>
            <a:r>
              <a:rPr b="1" lang="en-US" sz="2800" spc="-1" strike="noStrike">
                <a:solidFill>
                  <a:srgbClr val="0066ff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Text Box 21"/>
          <p:cNvSpPr/>
          <p:nvPr/>
        </p:nvSpPr>
        <p:spPr>
          <a:xfrm>
            <a:off x="501120" y="3645000"/>
            <a:ext cx="423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0×(1-20%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120×8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120×0.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9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（度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矩形 23"/>
          <p:cNvSpPr/>
          <p:nvPr/>
        </p:nvSpPr>
        <p:spPr>
          <a:xfrm>
            <a:off x="3132000" y="5805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王叔叔家七月份用电量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0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6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897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9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910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911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2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3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4" name="Text Box 3"/>
          <p:cNvSpPr/>
          <p:nvPr/>
        </p:nvSpPr>
        <p:spPr>
          <a:xfrm>
            <a:off x="1332000" y="2131920"/>
            <a:ext cx="2014560" cy="9471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百分数的意义和读写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AutoShape 4"/>
          <p:cNvSpPr/>
          <p:nvPr/>
        </p:nvSpPr>
        <p:spPr>
          <a:xfrm>
            <a:off x="3417840" y="1773360"/>
            <a:ext cx="360360" cy="151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Text Box 5"/>
          <p:cNvSpPr/>
          <p:nvPr/>
        </p:nvSpPr>
        <p:spPr>
          <a:xfrm>
            <a:off x="4445280" y="1555920"/>
            <a:ext cx="1704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百分数在生活中的作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Text Box 6"/>
          <p:cNvSpPr/>
          <p:nvPr/>
        </p:nvSpPr>
        <p:spPr>
          <a:xfrm>
            <a:off x="3924360" y="2060640"/>
            <a:ext cx="1851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百分数的意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Text Box 7"/>
          <p:cNvSpPr/>
          <p:nvPr/>
        </p:nvSpPr>
        <p:spPr>
          <a:xfrm>
            <a:off x="3924360" y="2527200"/>
            <a:ext cx="2376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百分数的读写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Text Box 8"/>
          <p:cNvSpPr/>
          <p:nvPr/>
        </p:nvSpPr>
        <p:spPr>
          <a:xfrm>
            <a:off x="3924360" y="3032280"/>
            <a:ext cx="3887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百分数与分数在意义上的区别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Text Box 10"/>
          <p:cNvSpPr/>
          <p:nvPr/>
        </p:nvSpPr>
        <p:spPr>
          <a:xfrm>
            <a:off x="1330200" y="3803760"/>
            <a:ext cx="208764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百分数和分数、小数的互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AutoShape 11"/>
          <p:cNvSpPr/>
          <p:nvPr/>
        </p:nvSpPr>
        <p:spPr>
          <a:xfrm>
            <a:off x="3417840" y="386064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Text Box 12"/>
          <p:cNvSpPr/>
          <p:nvPr/>
        </p:nvSpPr>
        <p:spPr>
          <a:xfrm>
            <a:off x="4359240" y="3718080"/>
            <a:ext cx="155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百分数和小数的互化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Text Box 13"/>
          <p:cNvSpPr/>
          <p:nvPr/>
        </p:nvSpPr>
        <p:spPr>
          <a:xfrm>
            <a:off x="3851280" y="4726080"/>
            <a:ext cx="259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百分数和分数的互化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AutoShape 14"/>
          <p:cNvSpPr/>
          <p:nvPr/>
        </p:nvSpPr>
        <p:spPr>
          <a:xfrm>
            <a:off x="6515280" y="3646440"/>
            <a:ext cx="215640" cy="576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AutoShape 15"/>
          <p:cNvSpPr/>
          <p:nvPr/>
        </p:nvSpPr>
        <p:spPr>
          <a:xfrm>
            <a:off x="6515280" y="4654440"/>
            <a:ext cx="215640" cy="720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Text Box 16"/>
          <p:cNvSpPr/>
          <p:nvPr/>
        </p:nvSpPr>
        <p:spPr>
          <a:xfrm>
            <a:off x="6804000" y="3502080"/>
            <a:ext cx="2158920" cy="862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小数化成百分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百分数化成小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Text Box 17"/>
          <p:cNvSpPr/>
          <p:nvPr/>
        </p:nvSpPr>
        <p:spPr>
          <a:xfrm>
            <a:off x="6804000" y="4510080"/>
            <a:ext cx="2158920" cy="1008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百分数化成分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数化成百分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Text Box 18"/>
          <p:cNvSpPr/>
          <p:nvPr/>
        </p:nvSpPr>
        <p:spPr>
          <a:xfrm>
            <a:off x="1474920" y="5516640"/>
            <a:ext cx="396072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用百分数解决问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AutoShape 19"/>
          <p:cNvSpPr/>
          <p:nvPr/>
        </p:nvSpPr>
        <p:spPr>
          <a:xfrm>
            <a:off x="900000" y="2563920"/>
            <a:ext cx="432000" cy="3241440"/>
          </a:xfrm>
          <a:custGeom>
            <a:avLst/>
            <a:gdLst>
              <a:gd name="textAreaLeft" fmla="*/ 276120 w 432000"/>
              <a:gd name="textAreaRight" fmla="*/ 432360 w 432000"/>
              <a:gd name="textAreaTop" fmla="*/ 63360 h 3241440"/>
              <a:gd name="textAreaBottom" fmla="*/ 3178080 h 32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5"/>
                  <a:pt x="10800" y="1349"/>
                </a:cubicBezTo>
                <a:lnTo>
                  <a:pt x="10800" y="9451"/>
                </a:lnTo>
                <a:cubicBezTo>
                  <a:pt x="10800" y="10126"/>
                  <a:pt x="5400" y="10800"/>
                  <a:pt x="0" y="10800"/>
                </a:cubicBezTo>
                <a:cubicBezTo>
                  <a:pt x="5400" y="10800"/>
                  <a:pt x="10800" y="11475"/>
                  <a:pt x="10800" y="12149"/>
                </a:cubicBezTo>
                <a:lnTo>
                  <a:pt x="10800" y="20251"/>
                </a:lnTo>
                <a:cubicBezTo>
                  <a:pt x="10800" y="2092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Text Box 20"/>
          <p:cNvSpPr/>
          <p:nvPr/>
        </p:nvSpPr>
        <p:spPr>
          <a:xfrm>
            <a:off x="-379080" y="3355920"/>
            <a:ext cx="1277640" cy="1585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百分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2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1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932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4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945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946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7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8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9" name="Rectangle 4"/>
          <p:cNvSpPr/>
          <p:nvPr/>
        </p:nvSpPr>
        <p:spPr>
          <a:xfrm>
            <a:off x="2050920" y="1700280"/>
            <a:ext cx="5473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什么叫扇形统计图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Rectangle 3"/>
          <p:cNvSpPr/>
          <p:nvPr/>
        </p:nvSpPr>
        <p:spPr>
          <a:xfrm>
            <a:off x="684360" y="2492280"/>
            <a:ext cx="5111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600" spc="-1" strike="noStrike">
                <a:solidFill>
                  <a:srgbClr val="0033cc"/>
                </a:solidFill>
                <a:latin typeface="Arial"/>
                <a:ea typeface="黑体"/>
              </a:rPr>
              <a:t>用整个圆表示总数量，每个扇形分别表示总体中的不同部分</a:t>
            </a: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2600" spc="-1" strike="noStrike">
                <a:solidFill>
                  <a:srgbClr val="0033cc"/>
                </a:solidFill>
                <a:latin typeface="Arial"/>
                <a:ea typeface="黑体"/>
              </a:rPr>
              <a:t>扇形的大小反映各部分数量占总数的百分数。这样的统计图叫做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扇形统计图</a:t>
            </a:r>
            <a:r>
              <a:rPr b="1" lang="zh-CN" sz="2600" spc="-1" strike="noStrike">
                <a:solidFill>
                  <a:srgbClr val="0033cc"/>
                </a:solidFill>
                <a:latin typeface="Arial"/>
                <a:ea typeface="黑体"/>
              </a:rPr>
              <a:t>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1" name="Picture 10" descr=""/>
          <p:cNvPicPr/>
          <p:nvPr/>
        </p:nvPicPr>
        <p:blipFill>
          <a:blip r:embed="rId2"/>
          <a:stretch/>
        </p:blipFill>
        <p:spPr>
          <a:xfrm>
            <a:off x="5940360" y="2492280"/>
            <a:ext cx="2808360" cy="279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6" dur="20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2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953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5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966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967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8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9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0" name="Rectangle 2"/>
          <p:cNvSpPr/>
          <p:nvPr/>
        </p:nvSpPr>
        <p:spPr>
          <a:xfrm>
            <a:off x="0" y="37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Rectangle 4"/>
          <p:cNvSpPr/>
          <p:nvPr/>
        </p:nvSpPr>
        <p:spPr>
          <a:xfrm>
            <a:off x="0" y="35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Text Box 11"/>
          <p:cNvSpPr/>
          <p:nvPr/>
        </p:nvSpPr>
        <p:spPr>
          <a:xfrm>
            <a:off x="755640" y="285264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扇形统计图可以让我们更清楚地了解各部分数量同总数之间的关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Text Box 13"/>
          <p:cNvSpPr/>
          <p:nvPr/>
        </p:nvSpPr>
        <p:spPr>
          <a:xfrm>
            <a:off x="1476360" y="191628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扇形统计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的特点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直接连接符 25"/>
          <p:cNvSpPr/>
          <p:nvPr/>
        </p:nvSpPr>
        <p:spPr>
          <a:xfrm>
            <a:off x="1379520" y="4363920"/>
            <a:ext cx="3889440" cy="0"/>
          </a:xfrm>
          <a:prstGeom prst="line">
            <a:avLst/>
          </a:prstGeom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9" dur="500"/>
                                        <p:tgtEl>
                                          <p:spTgt spid="2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5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976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977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8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9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0" name="Text Box 2"/>
          <p:cNvSpPr/>
          <p:nvPr/>
        </p:nvSpPr>
        <p:spPr>
          <a:xfrm>
            <a:off x="684360" y="1197000"/>
            <a:ext cx="7772400" cy="10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华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下面两个统计图中可以看出，甲校女生人数比乙校女生人数多。”你认为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1" name="Group 3"/>
          <p:cNvGrpSpPr/>
          <p:nvPr/>
        </p:nvGrpSpPr>
        <p:grpSpPr>
          <a:xfrm>
            <a:off x="1598760" y="2773440"/>
            <a:ext cx="2133000" cy="1950840"/>
            <a:chOff x="1598760" y="2773440"/>
            <a:chExt cx="2133000" cy="1950840"/>
          </a:xfrm>
        </p:grpSpPr>
        <p:sp>
          <p:nvSpPr>
            <p:cNvPr id="2982" name="未知"/>
            <p:cNvSpPr/>
            <p:nvPr/>
          </p:nvSpPr>
          <p:spPr>
            <a:xfrm>
              <a:off x="2628000" y="2773440"/>
              <a:ext cx="1044720" cy="1950840"/>
            </a:xfrm>
            <a:custGeom>
              <a:avLst/>
              <a:gdLst/>
              <a:ahLst/>
              <a:rect l="l" t="t" r="r" b="b"/>
              <a:pathLst>
                <a:path w="3094" h="6145">
                  <a:moveTo>
                    <a:pt x="21" y="0"/>
                  </a:moveTo>
                  <a:lnTo>
                    <a:pt x="0" y="0"/>
                  </a:lnTo>
                  <a:lnTo>
                    <a:pt x="0" y="6145"/>
                  </a:lnTo>
                  <a:lnTo>
                    <a:pt x="21" y="6145"/>
                  </a:lnTo>
                  <a:lnTo>
                    <a:pt x="60" y="6144"/>
                  </a:lnTo>
                  <a:lnTo>
                    <a:pt x="100" y="6144"/>
                  </a:lnTo>
                  <a:lnTo>
                    <a:pt x="138" y="6142"/>
                  </a:lnTo>
                  <a:lnTo>
                    <a:pt x="157" y="6141"/>
                  </a:lnTo>
                  <a:lnTo>
                    <a:pt x="178" y="6141"/>
                  </a:lnTo>
                  <a:lnTo>
                    <a:pt x="255" y="6136"/>
                  </a:lnTo>
                  <a:lnTo>
                    <a:pt x="294" y="6133"/>
                  </a:lnTo>
                  <a:lnTo>
                    <a:pt x="333" y="6131"/>
                  </a:lnTo>
                  <a:lnTo>
                    <a:pt x="408" y="6123"/>
                  </a:lnTo>
                  <a:lnTo>
                    <a:pt x="426" y="6119"/>
                  </a:lnTo>
                  <a:lnTo>
                    <a:pt x="445" y="6117"/>
                  </a:lnTo>
                  <a:lnTo>
                    <a:pt x="484" y="6113"/>
                  </a:lnTo>
                  <a:lnTo>
                    <a:pt x="559" y="6101"/>
                  </a:lnTo>
                  <a:lnTo>
                    <a:pt x="634" y="6089"/>
                  </a:lnTo>
                  <a:lnTo>
                    <a:pt x="706" y="6073"/>
                  </a:lnTo>
                  <a:lnTo>
                    <a:pt x="779" y="6056"/>
                  </a:lnTo>
                  <a:lnTo>
                    <a:pt x="796" y="6050"/>
                  </a:lnTo>
                  <a:lnTo>
                    <a:pt x="814" y="6046"/>
                  </a:lnTo>
                  <a:lnTo>
                    <a:pt x="850" y="6037"/>
                  </a:lnTo>
                  <a:lnTo>
                    <a:pt x="923" y="6017"/>
                  </a:lnTo>
                  <a:lnTo>
                    <a:pt x="992" y="5995"/>
                  </a:lnTo>
                  <a:lnTo>
                    <a:pt x="1062" y="5971"/>
                  </a:lnTo>
                  <a:lnTo>
                    <a:pt x="1132" y="5946"/>
                  </a:lnTo>
                  <a:lnTo>
                    <a:pt x="1166" y="5932"/>
                  </a:lnTo>
                  <a:lnTo>
                    <a:pt x="1183" y="5925"/>
                  </a:lnTo>
                  <a:lnTo>
                    <a:pt x="1201" y="5920"/>
                  </a:lnTo>
                  <a:lnTo>
                    <a:pt x="1266" y="5890"/>
                  </a:lnTo>
                  <a:lnTo>
                    <a:pt x="1299" y="5874"/>
                  </a:lnTo>
                  <a:lnTo>
                    <a:pt x="1333" y="5860"/>
                  </a:lnTo>
                  <a:lnTo>
                    <a:pt x="1399" y="5827"/>
                  </a:lnTo>
                  <a:lnTo>
                    <a:pt x="1465" y="5793"/>
                  </a:lnTo>
                  <a:lnTo>
                    <a:pt x="1528" y="5756"/>
                  </a:lnTo>
                  <a:lnTo>
                    <a:pt x="1560" y="5737"/>
                  </a:lnTo>
                  <a:lnTo>
                    <a:pt x="1593" y="5719"/>
                  </a:lnTo>
                  <a:lnTo>
                    <a:pt x="1657" y="5679"/>
                  </a:lnTo>
                  <a:lnTo>
                    <a:pt x="1720" y="5639"/>
                  </a:lnTo>
                  <a:lnTo>
                    <a:pt x="1750" y="5616"/>
                  </a:lnTo>
                  <a:lnTo>
                    <a:pt x="1764" y="5604"/>
                  </a:lnTo>
                  <a:lnTo>
                    <a:pt x="1780" y="5594"/>
                  </a:lnTo>
                  <a:lnTo>
                    <a:pt x="1841" y="5549"/>
                  </a:lnTo>
                  <a:lnTo>
                    <a:pt x="1871" y="5525"/>
                  </a:lnTo>
                  <a:lnTo>
                    <a:pt x="1901" y="5502"/>
                  </a:lnTo>
                  <a:lnTo>
                    <a:pt x="1962" y="5455"/>
                  </a:lnTo>
                  <a:lnTo>
                    <a:pt x="1975" y="5441"/>
                  </a:lnTo>
                  <a:lnTo>
                    <a:pt x="1990" y="5429"/>
                  </a:lnTo>
                  <a:lnTo>
                    <a:pt x="2019" y="5404"/>
                  </a:lnTo>
                  <a:lnTo>
                    <a:pt x="2078" y="5353"/>
                  </a:lnTo>
                  <a:lnTo>
                    <a:pt x="2107" y="5325"/>
                  </a:lnTo>
                  <a:lnTo>
                    <a:pt x="2136" y="5299"/>
                  </a:lnTo>
                  <a:lnTo>
                    <a:pt x="2194" y="5245"/>
                  </a:lnTo>
                  <a:lnTo>
                    <a:pt x="2248" y="5187"/>
                  </a:lnTo>
                  <a:lnTo>
                    <a:pt x="2275" y="5158"/>
                  </a:lnTo>
                  <a:lnTo>
                    <a:pt x="2302" y="5129"/>
                  </a:lnTo>
                  <a:lnTo>
                    <a:pt x="2353" y="5070"/>
                  </a:lnTo>
                  <a:lnTo>
                    <a:pt x="2378" y="5041"/>
                  </a:lnTo>
                  <a:lnTo>
                    <a:pt x="2390" y="5026"/>
                  </a:lnTo>
                  <a:lnTo>
                    <a:pt x="2404" y="5012"/>
                  </a:lnTo>
                  <a:lnTo>
                    <a:pt x="2451" y="4952"/>
                  </a:lnTo>
                  <a:lnTo>
                    <a:pt x="2474" y="4922"/>
                  </a:lnTo>
                  <a:lnTo>
                    <a:pt x="2498" y="4892"/>
                  </a:lnTo>
                  <a:lnTo>
                    <a:pt x="2543" y="4831"/>
                  </a:lnTo>
                  <a:lnTo>
                    <a:pt x="2554" y="4815"/>
                  </a:lnTo>
                  <a:lnTo>
                    <a:pt x="2565" y="4800"/>
                  </a:lnTo>
                  <a:lnTo>
                    <a:pt x="2588" y="4771"/>
                  </a:lnTo>
                  <a:lnTo>
                    <a:pt x="2628" y="4707"/>
                  </a:lnTo>
                  <a:lnTo>
                    <a:pt x="2668" y="4644"/>
                  </a:lnTo>
                  <a:lnTo>
                    <a:pt x="2686" y="4611"/>
                  </a:lnTo>
                  <a:lnTo>
                    <a:pt x="2705" y="4579"/>
                  </a:lnTo>
                  <a:lnTo>
                    <a:pt x="2742" y="4516"/>
                  </a:lnTo>
                  <a:lnTo>
                    <a:pt x="2776" y="4450"/>
                  </a:lnTo>
                  <a:lnTo>
                    <a:pt x="2809" y="4384"/>
                  </a:lnTo>
                  <a:lnTo>
                    <a:pt x="2823" y="4350"/>
                  </a:lnTo>
                  <a:lnTo>
                    <a:pt x="2839" y="4317"/>
                  </a:lnTo>
                  <a:lnTo>
                    <a:pt x="2869" y="4251"/>
                  </a:lnTo>
                  <a:lnTo>
                    <a:pt x="2874" y="4233"/>
                  </a:lnTo>
                  <a:lnTo>
                    <a:pt x="2881" y="4216"/>
                  </a:lnTo>
                  <a:lnTo>
                    <a:pt x="2895" y="4182"/>
                  </a:lnTo>
                  <a:lnTo>
                    <a:pt x="2920" y="4113"/>
                  </a:lnTo>
                  <a:lnTo>
                    <a:pt x="2944" y="4043"/>
                  </a:lnTo>
                  <a:lnTo>
                    <a:pt x="2966" y="3974"/>
                  </a:lnTo>
                  <a:lnTo>
                    <a:pt x="2986" y="3901"/>
                  </a:lnTo>
                  <a:lnTo>
                    <a:pt x="2995" y="3865"/>
                  </a:lnTo>
                  <a:lnTo>
                    <a:pt x="2999" y="3847"/>
                  </a:lnTo>
                  <a:lnTo>
                    <a:pt x="3005" y="3830"/>
                  </a:lnTo>
                  <a:lnTo>
                    <a:pt x="3022" y="3757"/>
                  </a:lnTo>
                  <a:lnTo>
                    <a:pt x="3038" y="3684"/>
                  </a:lnTo>
                  <a:lnTo>
                    <a:pt x="3050" y="3610"/>
                  </a:lnTo>
                  <a:lnTo>
                    <a:pt x="3062" y="3535"/>
                  </a:lnTo>
                  <a:lnTo>
                    <a:pt x="3066" y="3496"/>
                  </a:lnTo>
                  <a:lnTo>
                    <a:pt x="3068" y="3477"/>
                  </a:lnTo>
                  <a:lnTo>
                    <a:pt x="3072" y="3459"/>
                  </a:lnTo>
                  <a:lnTo>
                    <a:pt x="3080" y="3384"/>
                  </a:lnTo>
                  <a:lnTo>
                    <a:pt x="3085" y="3307"/>
                  </a:lnTo>
                  <a:lnTo>
                    <a:pt x="3090" y="3230"/>
                  </a:lnTo>
                  <a:lnTo>
                    <a:pt x="3090" y="3209"/>
                  </a:lnTo>
                  <a:lnTo>
                    <a:pt x="3091" y="3190"/>
                  </a:lnTo>
                  <a:lnTo>
                    <a:pt x="3093" y="3151"/>
                  </a:lnTo>
                  <a:lnTo>
                    <a:pt x="3093" y="3112"/>
                  </a:lnTo>
                  <a:lnTo>
                    <a:pt x="3094" y="3073"/>
                  </a:lnTo>
                  <a:lnTo>
                    <a:pt x="3093" y="2993"/>
                  </a:lnTo>
                  <a:lnTo>
                    <a:pt x="3090" y="2914"/>
                  </a:lnTo>
                  <a:lnTo>
                    <a:pt x="3085" y="2836"/>
                  </a:lnTo>
                  <a:lnTo>
                    <a:pt x="3080" y="2760"/>
                  </a:lnTo>
                  <a:lnTo>
                    <a:pt x="3072" y="2683"/>
                  </a:lnTo>
                  <a:lnTo>
                    <a:pt x="3062" y="2608"/>
                  </a:lnTo>
                  <a:lnTo>
                    <a:pt x="3050" y="2533"/>
                  </a:lnTo>
                  <a:lnTo>
                    <a:pt x="3038" y="2460"/>
                  </a:lnTo>
                  <a:lnTo>
                    <a:pt x="3022" y="2386"/>
                  </a:lnTo>
                  <a:lnTo>
                    <a:pt x="3005" y="2313"/>
                  </a:lnTo>
                  <a:lnTo>
                    <a:pt x="2986" y="2241"/>
                  </a:lnTo>
                  <a:lnTo>
                    <a:pt x="2966" y="2170"/>
                  </a:lnTo>
                  <a:lnTo>
                    <a:pt x="2944" y="2099"/>
                  </a:lnTo>
                  <a:lnTo>
                    <a:pt x="2920" y="2030"/>
                  </a:lnTo>
                  <a:lnTo>
                    <a:pt x="2895" y="1961"/>
                  </a:lnTo>
                  <a:lnTo>
                    <a:pt x="2869" y="1894"/>
                  </a:lnTo>
                  <a:lnTo>
                    <a:pt x="2839" y="1826"/>
                  </a:lnTo>
                  <a:lnTo>
                    <a:pt x="2809" y="1759"/>
                  </a:lnTo>
                  <a:lnTo>
                    <a:pt x="2776" y="1692"/>
                  </a:lnTo>
                  <a:lnTo>
                    <a:pt x="2742" y="1627"/>
                  </a:lnTo>
                  <a:lnTo>
                    <a:pt x="2705" y="1561"/>
                  </a:lnTo>
                  <a:lnTo>
                    <a:pt x="2668" y="1498"/>
                  </a:lnTo>
                  <a:lnTo>
                    <a:pt x="2628" y="1434"/>
                  </a:lnTo>
                  <a:lnTo>
                    <a:pt x="2588" y="1373"/>
                  </a:lnTo>
                  <a:lnTo>
                    <a:pt x="2543" y="1311"/>
                  </a:lnTo>
                  <a:lnTo>
                    <a:pt x="2498" y="1249"/>
                  </a:lnTo>
                  <a:lnTo>
                    <a:pt x="2451" y="1189"/>
                  </a:lnTo>
                  <a:lnTo>
                    <a:pt x="2404" y="1130"/>
                  </a:lnTo>
                  <a:lnTo>
                    <a:pt x="2353" y="1071"/>
                  </a:lnTo>
                  <a:lnTo>
                    <a:pt x="2302" y="1014"/>
                  </a:lnTo>
                  <a:lnTo>
                    <a:pt x="2248" y="956"/>
                  </a:lnTo>
                  <a:lnTo>
                    <a:pt x="2194" y="900"/>
                  </a:lnTo>
                  <a:lnTo>
                    <a:pt x="2136" y="843"/>
                  </a:lnTo>
                  <a:lnTo>
                    <a:pt x="2078" y="790"/>
                  </a:lnTo>
                  <a:lnTo>
                    <a:pt x="2019" y="737"/>
                  </a:lnTo>
                  <a:lnTo>
                    <a:pt x="1962" y="688"/>
                  </a:lnTo>
                  <a:lnTo>
                    <a:pt x="1901" y="639"/>
                  </a:lnTo>
                  <a:lnTo>
                    <a:pt x="1841" y="593"/>
                  </a:lnTo>
                  <a:lnTo>
                    <a:pt x="1780" y="547"/>
                  </a:lnTo>
                  <a:lnTo>
                    <a:pt x="1720" y="505"/>
                  </a:lnTo>
                  <a:lnTo>
                    <a:pt x="1657" y="463"/>
                  </a:lnTo>
                  <a:lnTo>
                    <a:pt x="1593" y="424"/>
                  </a:lnTo>
                  <a:lnTo>
                    <a:pt x="1528" y="385"/>
                  </a:lnTo>
                  <a:lnTo>
                    <a:pt x="1465" y="350"/>
                  </a:lnTo>
                  <a:lnTo>
                    <a:pt x="1399" y="315"/>
                  </a:lnTo>
                  <a:lnTo>
                    <a:pt x="1333" y="283"/>
                  </a:lnTo>
                  <a:lnTo>
                    <a:pt x="1266" y="253"/>
                  </a:lnTo>
                  <a:lnTo>
                    <a:pt x="1201" y="224"/>
                  </a:lnTo>
                  <a:lnTo>
                    <a:pt x="1132" y="196"/>
                  </a:lnTo>
                  <a:lnTo>
                    <a:pt x="1062" y="171"/>
                  </a:lnTo>
                  <a:lnTo>
                    <a:pt x="992" y="147"/>
                  </a:lnTo>
                  <a:lnTo>
                    <a:pt x="923" y="126"/>
                  </a:lnTo>
                  <a:lnTo>
                    <a:pt x="850" y="104"/>
                  </a:lnTo>
                  <a:lnTo>
                    <a:pt x="779" y="86"/>
                  </a:lnTo>
                  <a:lnTo>
                    <a:pt x="706" y="69"/>
                  </a:lnTo>
                  <a:lnTo>
                    <a:pt x="634" y="55"/>
                  </a:lnTo>
                  <a:lnTo>
                    <a:pt x="559" y="40"/>
                  </a:lnTo>
                  <a:lnTo>
                    <a:pt x="484" y="30"/>
                  </a:lnTo>
                  <a:lnTo>
                    <a:pt x="408" y="20"/>
                  </a:lnTo>
                  <a:lnTo>
                    <a:pt x="333" y="13"/>
                  </a:lnTo>
                  <a:lnTo>
                    <a:pt x="255" y="6"/>
                  </a:lnTo>
                  <a:lnTo>
                    <a:pt x="178" y="3"/>
                  </a:lnTo>
                  <a:lnTo>
                    <a:pt x="10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d56ad"/>
            </a:solidFill>
            <a:ln w="9360">
              <a:solidFill>
                <a:srgbClr val="ffff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未知"/>
            <p:cNvSpPr/>
            <p:nvPr/>
          </p:nvSpPr>
          <p:spPr>
            <a:xfrm>
              <a:off x="1598760" y="2773440"/>
              <a:ext cx="1029240" cy="1950840"/>
            </a:xfrm>
            <a:custGeom>
              <a:avLst/>
              <a:gdLst/>
              <a:ahLst/>
              <a:rect l="l" t="t" r="r" b="b"/>
              <a:pathLst>
                <a:path w="3050" h="6145">
                  <a:moveTo>
                    <a:pt x="0" y="3073"/>
                  </a:moveTo>
                  <a:lnTo>
                    <a:pt x="0" y="3151"/>
                  </a:lnTo>
                  <a:lnTo>
                    <a:pt x="3" y="3230"/>
                  </a:lnTo>
                  <a:lnTo>
                    <a:pt x="6" y="3307"/>
                  </a:lnTo>
                  <a:lnTo>
                    <a:pt x="13" y="3384"/>
                  </a:lnTo>
                  <a:lnTo>
                    <a:pt x="20" y="3459"/>
                  </a:lnTo>
                  <a:lnTo>
                    <a:pt x="30" y="3535"/>
                  </a:lnTo>
                  <a:lnTo>
                    <a:pt x="40" y="3610"/>
                  </a:lnTo>
                  <a:lnTo>
                    <a:pt x="55" y="3684"/>
                  </a:lnTo>
                  <a:lnTo>
                    <a:pt x="69" y="3757"/>
                  </a:lnTo>
                  <a:lnTo>
                    <a:pt x="86" y="3830"/>
                  </a:lnTo>
                  <a:lnTo>
                    <a:pt x="104" y="3901"/>
                  </a:lnTo>
                  <a:lnTo>
                    <a:pt x="125" y="3974"/>
                  </a:lnTo>
                  <a:lnTo>
                    <a:pt x="147" y="4043"/>
                  </a:lnTo>
                  <a:lnTo>
                    <a:pt x="171" y="4113"/>
                  </a:lnTo>
                  <a:lnTo>
                    <a:pt x="196" y="4182"/>
                  </a:lnTo>
                  <a:lnTo>
                    <a:pt x="224" y="4251"/>
                  </a:lnTo>
                  <a:lnTo>
                    <a:pt x="252" y="4317"/>
                  </a:lnTo>
                  <a:lnTo>
                    <a:pt x="283" y="4384"/>
                  </a:lnTo>
                  <a:lnTo>
                    <a:pt x="315" y="4450"/>
                  </a:lnTo>
                  <a:lnTo>
                    <a:pt x="350" y="4516"/>
                  </a:lnTo>
                  <a:lnTo>
                    <a:pt x="385" y="4579"/>
                  </a:lnTo>
                  <a:lnTo>
                    <a:pt x="424" y="4644"/>
                  </a:lnTo>
                  <a:lnTo>
                    <a:pt x="463" y="4707"/>
                  </a:lnTo>
                  <a:lnTo>
                    <a:pt x="505" y="4771"/>
                  </a:lnTo>
                  <a:lnTo>
                    <a:pt x="547" y="4831"/>
                  </a:lnTo>
                  <a:lnTo>
                    <a:pt x="593" y="4892"/>
                  </a:lnTo>
                  <a:lnTo>
                    <a:pt x="639" y="4952"/>
                  </a:lnTo>
                  <a:lnTo>
                    <a:pt x="688" y="5012"/>
                  </a:lnTo>
                  <a:lnTo>
                    <a:pt x="737" y="5070"/>
                  </a:lnTo>
                  <a:lnTo>
                    <a:pt x="790" y="5129"/>
                  </a:lnTo>
                  <a:lnTo>
                    <a:pt x="843" y="5187"/>
                  </a:lnTo>
                  <a:lnTo>
                    <a:pt x="900" y="5245"/>
                  </a:lnTo>
                  <a:lnTo>
                    <a:pt x="955" y="5299"/>
                  </a:lnTo>
                  <a:lnTo>
                    <a:pt x="1012" y="5353"/>
                  </a:lnTo>
                  <a:lnTo>
                    <a:pt x="1069" y="5404"/>
                  </a:lnTo>
                  <a:lnTo>
                    <a:pt x="1128" y="5454"/>
                  </a:lnTo>
                  <a:lnTo>
                    <a:pt x="1186" y="5501"/>
                  </a:lnTo>
                  <a:lnTo>
                    <a:pt x="1246" y="5548"/>
                  </a:lnTo>
                  <a:lnTo>
                    <a:pt x="1306" y="5592"/>
                  </a:lnTo>
                  <a:lnTo>
                    <a:pt x="1368" y="5635"/>
                  </a:lnTo>
                  <a:lnTo>
                    <a:pt x="1429" y="5675"/>
                  </a:lnTo>
                  <a:lnTo>
                    <a:pt x="1492" y="5715"/>
                  </a:lnTo>
                  <a:lnTo>
                    <a:pt x="1554" y="5752"/>
                  </a:lnTo>
                  <a:lnTo>
                    <a:pt x="1619" y="5788"/>
                  </a:lnTo>
                  <a:lnTo>
                    <a:pt x="1683" y="5822"/>
                  </a:lnTo>
                  <a:lnTo>
                    <a:pt x="1749" y="5855"/>
                  </a:lnTo>
                  <a:lnTo>
                    <a:pt x="1815" y="5886"/>
                  </a:lnTo>
                  <a:lnTo>
                    <a:pt x="1883" y="5915"/>
                  </a:lnTo>
                  <a:lnTo>
                    <a:pt x="1950" y="5941"/>
                  </a:lnTo>
                  <a:lnTo>
                    <a:pt x="2018" y="5966"/>
                  </a:lnTo>
                  <a:lnTo>
                    <a:pt x="2086" y="5990"/>
                  </a:lnTo>
                  <a:lnTo>
                    <a:pt x="2156" y="6013"/>
                  </a:lnTo>
                  <a:lnTo>
                    <a:pt x="2227" y="6033"/>
                  </a:lnTo>
                  <a:lnTo>
                    <a:pt x="2298" y="6052"/>
                  </a:lnTo>
                  <a:lnTo>
                    <a:pt x="2369" y="6069"/>
                  </a:lnTo>
                  <a:lnTo>
                    <a:pt x="2443" y="6085"/>
                  </a:lnTo>
                  <a:lnTo>
                    <a:pt x="2516" y="6098"/>
                  </a:lnTo>
                  <a:lnTo>
                    <a:pt x="2589" y="6109"/>
                  </a:lnTo>
                  <a:lnTo>
                    <a:pt x="2664" y="6119"/>
                  </a:lnTo>
                  <a:lnTo>
                    <a:pt x="2740" y="6128"/>
                  </a:lnTo>
                  <a:lnTo>
                    <a:pt x="2816" y="6134"/>
                  </a:lnTo>
                  <a:lnTo>
                    <a:pt x="2893" y="6140"/>
                  </a:lnTo>
                  <a:lnTo>
                    <a:pt x="2970" y="6143"/>
                  </a:lnTo>
                  <a:lnTo>
                    <a:pt x="3050" y="6145"/>
                  </a:lnTo>
                  <a:lnTo>
                    <a:pt x="3050" y="0"/>
                  </a:lnTo>
                  <a:lnTo>
                    <a:pt x="2970" y="0"/>
                  </a:lnTo>
                  <a:lnTo>
                    <a:pt x="2893" y="3"/>
                  </a:lnTo>
                  <a:lnTo>
                    <a:pt x="2816" y="6"/>
                  </a:lnTo>
                  <a:lnTo>
                    <a:pt x="2740" y="14"/>
                  </a:lnTo>
                  <a:lnTo>
                    <a:pt x="2589" y="31"/>
                  </a:lnTo>
                  <a:lnTo>
                    <a:pt x="2443" y="57"/>
                  </a:lnTo>
                  <a:lnTo>
                    <a:pt x="2369" y="71"/>
                  </a:lnTo>
                  <a:lnTo>
                    <a:pt x="2298" y="88"/>
                  </a:lnTo>
                  <a:lnTo>
                    <a:pt x="2156" y="128"/>
                  </a:lnTo>
                  <a:lnTo>
                    <a:pt x="2086" y="149"/>
                  </a:lnTo>
                  <a:lnTo>
                    <a:pt x="2018" y="174"/>
                  </a:lnTo>
                  <a:lnTo>
                    <a:pt x="1883" y="228"/>
                  </a:lnTo>
                  <a:lnTo>
                    <a:pt x="1815" y="256"/>
                  </a:lnTo>
                  <a:lnTo>
                    <a:pt x="1749" y="287"/>
                  </a:lnTo>
                  <a:lnTo>
                    <a:pt x="1619" y="353"/>
                  </a:lnTo>
                  <a:lnTo>
                    <a:pt x="1554" y="389"/>
                  </a:lnTo>
                  <a:lnTo>
                    <a:pt x="1492" y="427"/>
                  </a:lnTo>
                  <a:lnTo>
                    <a:pt x="1368" y="508"/>
                  </a:lnTo>
                  <a:lnTo>
                    <a:pt x="1306" y="550"/>
                  </a:lnTo>
                  <a:lnTo>
                    <a:pt x="1246" y="595"/>
                  </a:lnTo>
                  <a:lnTo>
                    <a:pt x="1186" y="640"/>
                  </a:lnTo>
                  <a:lnTo>
                    <a:pt x="1128" y="689"/>
                  </a:lnTo>
                  <a:lnTo>
                    <a:pt x="1069" y="738"/>
                  </a:lnTo>
                  <a:lnTo>
                    <a:pt x="1012" y="790"/>
                  </a:lnTo>
                  <a:lnTo>
                    <a:pt x="900" y="900"/>
                  </a:lnTo>
                  <a:lnTo>
                    <a:pt x="843" y="956"/>
                  </a:lnTo>
                  <a:lnTo>
                    <a:pt x="790" y="1014"/>
                  </a:lnTo>
                  <a:lnTo>
                    <a:pt x="737" y="1071"/>
                  </a:lnTo>
                  <a:lnTo>
                    <a:pt x="688" y="1130"/>
                  </a:lnTo>
                  <a:lnTo>
                    <a:pt x="639" y="1189"/>
                  </a:lnTo>
                  <a:lnTo>
                    <a:pt x="593" y="1249"/>
                  </a:lnTo>
                  <a:lnTo>
                    <a:pt x="505" y="1373"/>
                  </a:lnTo>
                  <a:lnTo>
                    <a:pt x="463" y="1434"/>
                  </a:lnTo>
                  <a:lnTo>
                    <a:pt x="424" y="1498"/>
                  </a:lnTo>
                  <a:lnTo>
                    <a:pt x="385" y="1561"/>
                  </a:lnTo>
                  <a:lnTo>
                    <a:pt x="350" y="1627"/>
                  </a:lnTo>
                  <a:lnTo>
                    <a:pt x="315" y="1692"/>
                  </a:lnTo>
                  <a:lnTo>
                    <a:pt x="283" y="1759"/>
                  </a:lnTo>
                  <a:lnTo>
                    <a:pt x="252" y="1826"/>
                  </a:lnTo>
                  <a:lnTo>
                    <a:pt x="224" y="1894"/>
                  </a:lnTo>
                  <a:lnTo>
                    <a:pt x="196" y="1961"/>
                  </a:lnTo>
                  <a:lnTo>
                    <a:pt x="171" y="2030"/>
                  </a:lnTo>
                  <a:lnTo>
                    <a:pt x="147" y="2099"/>
                  </a:lnTo>
                  <a:lnTo>
                    <a:pt x="125" y="2170"/>
                  </a:lnTo>
                  <a:lnTo>
                    <a:pt x="104" y="2241"/>
                  </a:lnTo>
                  <a:lnTo>
                    <a:pt x="86" y="2313"/>
                  </a:lnTo>
                  <a:lnTo>
                    <a:pt x="55" y="2460"/>
                  </a:lnTo>
                  <a:lnTo>
                    <a:pt x="40" y="2533"/>
                  </a:lnTo>
                  <a:lnTo>
                    <a:pt x="30" y="2608"/>
                  </a:lnTo>
                  <a:lnTo>
                    <a:pt x="20" y="2683"/>
                  </a:lnTo>
                  <a:lnTo>
                    <a:pt x="13" y="2760"/>
                  </a:lnTo>
                  <a:lnTo>
                    <a:pt x="6" y="2836"/>
                  </a:lnTo>
                  <a:lnTo>
                    <a:pt x="3" y="2914"/>
                  </a:lnTo>
                  <a:lnTo>
                    <a:pt x="0" y="2993"/>
                  </a:lnTo>
                  <a:lnTo>
                    <a:pt x="0" y="3073"/>
                  </a:lnTo>
                  <a:close/>
                </a:path>
              </a:pathLst>
            </a:custGeom>
            <a:solidFill>
              <a:srgbClr val="77ecec"/>
            </a:solidFill>
            <a:ln w="9360">
              <a:solidFill>
                <a:srgbClr val="ffff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Text Box 6"/>
            <p:cNvSpPr/>
            <p:nvPr/>
          </p:nvSpPr>
          <p:spPr>
            <a:xfrm>
              <a:off x="1625760" y="3132000"/>
              <a:ext cx="1134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女生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Text Box 7"/>
            <p:cNvSpPr/>
            <p:nvPr/>
          </p:nvSpPr>
          <p:spPr>
            <a:xfrm>
              <a:off x="2597760" y="3207960"/>
              <a:ext cx="1134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男生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6" name="Group 8"/>
          <p:cNvGrpSpPr/>
          <p:nvPr/>
        </p:nvGrpSpPr>
        <p:grpSpPr>
          <a:xfrm>
            <a:off x="5256360" y="2773440"/>
            <a:ext cx="2209320" cy="2233800"/>
            <a:chOff x="5256360" y="2773440"/>
            <a:chExt cx="2209320" cy="2233800"/>
          </a:xfrm>
        </p:grpSpPr>
        <p:sp>
          <p:nvSpPr>
            <p:cNvPr id="2987" name="未知"/>
            <p:cNvSpPr/>
            <p:nvPr/>
          </p:nvSpPr>
          <p:spPr>
            <a:xfrm>
              <a:off x="5441760" y="2773440"/>
              <a:ext cx="1966320" cy="1950840"/>
            </a:xfrm>
            <a:custGeom>
              <a:avLst/>
              <a:gdLst/>
              <a:ahLst/>
              <a:rect l="l" t="t" r="r" b="b"/>
              <a:pathLst>
                <a:path w="5617" h="6146">
                  <a:moveTo>
                    <a:pt x="372" y="901"/>
                  </a:moveTo>
                  <a:lnTo>
                    <a:pt x="269" y="1006"/>
                  </a:lnTo>
                  <a:lnTo>
                    <a:pt x="220" y="1060"/>
                  </a:lnTo>
                  <a:lnTo>
                    <a:pt x="174" y="1115"/>
                  </a:lnTo>
                  <a:lnTo>
                    <a:pt x="83" y="1228"/>
                  </a:lnTo>
                  <a:lnTo>
                    <a:pt x="40" y="1284"/>
                  </a:lnTo>
                  <a:lnTo>
                    <a:pt x="0" y="1343"/>
                  </a:lnTo>
                  <a:lnTo>
                    <a:pt x="2564" y="3140"/>
                  </a:lnTo>
                  <a:lnTo>
                    <a:pt x="2545" y="6146"/>
                  </a:lnTo>
                  <a:lnTo>
                    <a:pt x="2583" y="6145"/>
                  </a:lnTo>
                  <a:lnTo>
                    <a:pt x="2623" y="6145"/>
                  </a:lnTo>
                  <a:lnTo>
                    <a:pt x="2662" y="6143"/>
                  </a:lnTo>
                  <a:lnTo>
                    <a:pt x="2681" y="6142"/>
                  </a:lnTo>
                  <a:lnTo>
                    <a:pt x="2701" y="6142"/>
                  </a:lnTo>
                  <a:lnTo>
                    <a:pt x="2778" y="6137"/>
                  </a:lnTo>
                  <a:lnTo>
                    <a:pt x="2855" y="6132"/>
                  </a:lnTo>
                  <a:lnTo>
                    <a:pt x="2930" y="6124"/>
                  </a:lnTo>
                  <a:lnTo>
                    <a:pt x="2948" y="6120"/>
                  </a:lnTo>
                  <a:lnTo>
                    <a:pt x="2968" y="6118"/>
                  </a:lnTo>
                  <a:lnTo>
                    <a:pt x="3006" y="6113"/>
                  </a:lnTo>
                  <a:lnTo>
                    <a:pt x="3081" y="6102"/>
                  </a:lnTo>
                  <a:lnTo>
                    <a:pt x="3156" y="6090"/>
                  </a:lnTo>
                  <a:lnTo>
                    <a:pt x="3229" y="6074"/>
                  </a:lnTo>
                  <a:lnTo>
                    <a:pt x="3301" y="6057"/>
                  </a:lnTo>
                  <a:lnTo>
                    <a:pt x="3318" y="6051"/>
                  </a:lnTo>
                  <a:lnTo>
                    <a:pt x="3336" y="6046"/>
                  </a:lnTo>
                  <a:lnTo>
                    <a:pt x="3373" y="6037"/>
                  </a:lnTo>
                  <a:lnTo>
                    <a:pt x="3445" y="6018"/>
                  </a:lnTo>
                  <a:lnTo>
                    <a:pt x="3514" y="5995"/>
                  </a:lnTo>
                  <a:lnTo>
                    <a:pt x="3585" y="5972"/>
                  </a:lnTo>
                  <a:lnTo>
                    <a:pt x="3654" y="5947"/>
                  </a:lnTo>
                  <a:lnTo>
                    <a:pt x="3688" y="5933"/>
                  </a:lnTo>
                  <a:lnTo>
                    <a:pt x="3705" y="5926"/>
                  </a:lnTo>
                  <a:lnTo>
                    <a:pt x="3723" y="5921"/>
                  </a:lnTo>
                  <a:lnTo>
                    <a:pt x="3789" y="5891"/>
                  </a:lnTo>
                  <a:lnTo>
                    <a:pt x="3822" y="5875"/>
                  </a:lnTo>
                  <a:lnTo>
                    <a:pt x="3856" y="5860"/>
                  </a:lnTo>
                  <a:lnTo>
                    <a:pt x="3921" y="5828"/>
                  </a:lnTo>
                  <a:lnTo>
                    <a:pt x="3987" y="5794"/>
                  </a:lnTo>
                  <a:lnTo>
                    <a:pt x="4051" y="5757"/>
                  </a:lnTo>
                  <a:lnTo>
                    <a:pt x="4082" y="5738"/>
                  </a:lnTo>
                  <a:lnTo>
                    <a:pt x="4115" y="5720"/>
                  </a:lnTo>
                  <a:lnTo>
                    <a:pt x="4179" y="5680"/>
                  </a:lnTo>
                  <a:lnTo>
                    <a:pt x="4242" y="5639"/>
                  </a:lnTo>
                  <a:lnTo>
                    <a:pt x="4272" y="5617"/>
                  </a:lnTo>
                  <a:lnTo>
                    <a:pt x="4286" y="5605"/>
                  </a:lnTo>
                  <a:lnTo>
                    <a:pt x="4302" y="5595"/>
                  </a:lnTo>
                  <a:lnTo>
                    <a:pt x="4364" y="5550"/>
                  </a:lnTo>
                  <a:lnTo>
                    <a:pt x="4393" y="5526"/>
                  </a:lnTo>
                  <a:lnTo>
                    <a:pt x="4424" y="5503"/>
                  </a:lnTo>
                  <a:lnTo>
                    <a:pt x="4484" y="5456"/>
                  </a:lnTo>
                  <a:lnTo>
                    <a:pt x="4497" y="5442"/>
                  </a:lnTo>
                  <a:lnTo>
                    <a:pt x="4512" y="5429"/>
                  </a:lnTo>
                  <a:lnTo>
                    <a:pt x="4542" y="5405"/>
                  </a:lnTo>
                  <a:lnTo>
                    <a:pt x="4601" y="5353"/>
                  </a:lnTo>
                  <a:lnTo>
                    <a:pt x="4629" y="5326"/>
                  </a:lnTo>
                  <a:lnTo>
                    <a:pt x="4658" y="5300"/>
                  </a:lnTo>
                  <a:lnTo>
                    <a:pt x="4716" y="5246"/>
                  </a:lnTo>
                  <a:lnTo>
                    <a:pt x="4771" y="5188"/>
                  </a:lnTo>
                  <a:lnTo>
                    <a:pt x="4797" y="5158"/>
                  </a:lnTo>
                  <a:lnTo>
                    <a:pt x="4824" y="5130"/>
                  </a:lnTo>
                  <a:lnTo>
                    <a:pt x="4875" y="5071"/>
                  </a:lnTo>
                  <a:lnTo>
                    <a:pt x="4900" y="5042"/>
                  </a:lnTo>
                  <a:lnTo>
                    <a:pt x="4912" y="5027"/>
                  </a:lnTo>
                  <a:lnTo>
                    <a:pt x="4926" y="5013"/>
                  </a:lnTo>
                  <a:lnTo>
                    <a:pt x="4974" y="4953"/>
                  </a:lnTo>
                  <a:lnTo>
                    <a:pt x="4996" y="4923"/>
                  </a:lnTo>
                  <a:lnTo>
                    <a:pt x="5020" y="4893"/>
                  </a:lnTo>
                  <a:lnTo>
                    <a:pt x="5066" y="4832"/>
                  </a:lnTo>
                  <a:lnTo>
                    <a:pt x="5076" y="4816"/>
                  </a:lnTo>
                  <a:lnTo>
                    <a:pt x="5087" y="4801"/>
                  </a:lnTo>
                  <a:lnTo>
                    <a:pt x="5110" y="4772"/>
                  </a:lnTo>
                  <a:lnTo>
                    <a:pt x="5151" y="4708"/>
                  </a:lnTo>
                  <a:lnTo>
                    <a:pt x="5190" y="4645"/>
                  </a:lnTo>
                  <a:lnTo>
                    <a:pt x="5208" y="4612"/>
                  </a:lnTo>
                  <a:lnTo>
                    <a:pt x="5228" y="4580"/>
                  </a:lnTo>
                  <a:lnTo>
                    <a:pt x="5264" y="4516"/>
                  </a:lnTo>
                  <a:lnTo>
                    <a:pt x="5298" y="4451"/>
                  </a:lnTo>
                  <a:lnTo>
                    <a:pt x="5331" y="4385"/>
                  </a:lnTo>
                  <a:lnTo>
                    <a:pt x="5346" y="4351"/>
                  </a:lnTo>
                  <a:lnTo>
                    <a:pt x="5361" y="4318"/>
                  </a:lnTo>
                  <a:lnTo>
                    <a:pt x="5391" y="4252"/>
                  </a:lnTo>
                  <a:lnTo>
                    <a:pt x="5397" y="4234"/>
                  </a:lnTo>
                  <a:lnTo>
                    <a:pt x="5403" y="4217"/>
                  </a:lnTo>
                  <a:lnTo>
                    <a:pt x="5417" y="4183"/>
                  </a:lnTo>
                  <a:lnTo>
                    <a:pt x="5442" y="4114"/>
                  </a:lnTo>
                  <a:lnTo>
                    <a:pt x="5466" y="4044"/>
                  </a:lnTo>
                  <a:lnTo>
                    <a:pt x="5488" y="3974"/>
                  </a:lnTo>
                  <a:lnTo>
                    <a:pt x="5498" y="3938"/>
                  </a:lnTo>
                  <a:lnTo>
                    <a:pt x="5502" y="3920"/>
                  </a:lnTo>
                  <a:lnTo>
                    <a:pt x="5508" y="3903"/>
                  </a:lnTo>
                  <a:lnTo>
                    <a:pt x="5517" y="3867"/>
                  </a:lnTo>
                  <a:lnTo>
                    <a:pt x="5521" y="3848"/>
                  </a:lnTo>
                  <a:lnTo>
                    <a:pt x="5527" y="3831"/>
                  </a:lnTo>
                  <a:lnTo>
                    <a:pt x="5544" y="3759"/>
                  </a:lnTo>
                  <a:lnTo>
                    <a:pt x="5560" y="3686"/>
                  </a:lnTo>
                  <a:lnTo>
                    <a:pt x="5572" y="3611"/>
                  </a:lnTo>
                  <a:lnTo>
                    <a:pt x="5584" y="3537"/>
                  </a:lnTo>
                  <a:lnTo>
                    <a:pt x="5588" y="3498"/>
                  </a:lnTo>
                  <a:lnTo>
                    <a:pt x="5591" y="3479"/>
                  </a:lnTo>
                  <a:lnTo>
                    <a:pt x="5594" y="3461"/>
                  </a:lnTo>
                  <a:lnTo>
                    <a:pt x="5602" y="3386"/>
                  </a:lnTo>
                  <a:lnTo>
                    <a:pt x="5604" y="3346"/>
                  </a:lnTo>
                  <a:lnTo>
                    <a:pt x="5608" y="3308"/>
                  </a:lnTo>
                  <a:lnTo>
                    <a:pt x="5612" y="3230"/>
                  </a:lnTo>
                  <a:lnTo>
                    <a:pt x="5612" y="3210"/>
                  </a:lnTo>
                  <a:lnTo>
                    <a:pt x="5613" y="3191"/>
                  </a:lnTo>
                  <a:lnTo>
                    <a:pt x="5615" y="3152"/>
                  </a:lnTo>
                  <a:lnTo>
                    <a:pt x="5615" y="3112"/>
                  </a:lnTo>
                  <a:lnTo>
                    <a:pt x="5617" y="3074"/>
                  </a:lnTo>
                  <a:lnTo>
                    <a:pt x="5615" y="2993"/>
                  </a:lnTo>
                  <a:lnTo>
                    <a:pt x="5612" y="2915"/>
                  </a:lnTo>
                  <a:lnTo>
                    <a:pt x="5608" y="2837"/>
                  </a:lnTo>
                  <a:lnTo>
                    <a:pt x="5602" y="2761"/>
                  </a:lnTo>
                  <a:lnTo>
                    <a:pt x="5594" y="2684"/>
                  </a:lnTo>
                  <a:lnTo>
                    <a:pt x="5584" y="2609"/>
                  </a:lnTo>
                  <a:lnTo>
                    <a:pt x="5572" y="2534"/>
                  </a:lnTo>
                  <a:lnTo>
                    <a:pt x="5560" y="2460"/>
                  </a:lnTo>
                  <a:lnTo>
                    <a:pt x="5544" y="2387"/>
                  </a:lnTo>
                  <a:lnTo>
                    <a:pt x="5527" y="2314"/>
                  </a:lnTo>
                  <a:lnTo>
                    <a:pt x="5508" y="2241"/>
                  </a:lnTo>
                  <a:lnTo>
                    <a:pt x="5488" y="2171"/>
                  </a:lnTo>
                  <a:lnTo>
                    <a:pt x="5466" y="2100"/>
                  </a:lnTo>
                  <a:lnTo>
                    <a:pt x="5442" y="2030"/>
                  </a:lnTo>
                  <a:lnTo>
                    <a:pt x="5417" y="1961"/>
                  </a:lnTo>
                  <a:lnTo>
                    <a:pt x="5391" y="1894"/>
                  </a:lnTo>
                  <a:lnTo>
                    <a:pt x="5361" y="1826"/>
                  </a:lnTo>
                  <a:lnTo>
                    <a:pt x="5331" y="1759"/>
                  </a:lnTo>
                  <a:lnTo>
                    <a:pt x="5298" y="1693"/>
                  </a:lnTo>
                  <a:lnTo>
                    <a:pt x="5264" y="1628"/>
                  </a:lnTo>
                  <a:lnTo>
                    <a:pt x="5228" y="1562"/>
                  </a:lnTo>
                  <a:lnTo>
                    <a:pt x="5190" y="1499"/>
                  </a:lnTo>
                  <a:lnTo>
                    <a:pt x="5151" y="1435"/>
                  </a:lnTo>
                  <a:lnTo>
                    <a:pt x="5110" y="1374"/>
                  </a:lnTo>
                  <a:lnTo>
                    <a:pt x="5066" y="1311"/>
                  </a:lnTo>
                  <a:lnTo>
                    <a:pt x="5020" y="1250"/>
                  </a:lnTo>
                  <a:lnTo>
                    <a:pt x="4974" y="1190"/>
                  </a:lnTo>
                  <a:lnTo>
                    <a:pt x="4926" y="1131"/>
                  </a:lnTo>
                  <a:lnTo>
                    <a:pt x="4875" y="1072"/>
                  </a:lnTo>
                  <a:lnTo>
                    <a:pt x="4824" y="1014"/>
                  </a:lnTo>
                  <a:lnTo>
                    <a:pt x="4771" y="956"/>
                  </a:lnTo>
                  <a:lnTo>
                    <a:pt x="4716" y="901"/>
                  </a:lnTo>
                  <a:lnTo>
                    <a:pt x="4658" y="844"/>
                  </a:lnTo>
                  <a:lnTo>
                    <a:pt x="4601" y="791"/>
                  </a:lnTo>
                  <a:lnTo>
                    <a:pt x="4542" y="738"/>
                  </a:lnTo>
                  <a:lnTo>
                    <a:pt x="4484" y="689"/>
                  </a:lnTo>
                  <a:lnTo>
                    <a:pt x="4424" y="640"/>
                  </a:lnTo>
                  <a:lnTo>
                    <a:pt x="4364" y="594"/>
                  </a:lnTo>
                  <a:lnTo>
                    <a:pt x="4302" y="548"/>
                  </a:lnTo>
                  <a:lnTo>
                    <a:pt x="4242" y="506"/>
                  </a:lnTo>
                  <a:lnTo>
                    <a:pt x="4179" y="464"/>
                  </a:lnTo>
                  <a:lnTo>
                    <a:pt x="4115" y="425"/>
                  </a:lnTo>
                  <a:lnTo>
                    <a:pt x="4051" y="386"/>
                  </a:lnTo>
                  <a:lnTo>
                    <a:pt x="3987" y="351"/>
                  </a:lnTo>
                  <a:lnTo>
                    <a:pt x="3921" y="316"/>
                  </a:lnTo>
                  <a:lnTo>
                    <a:pt x="3856" y="284"/>
                  </a:lnTo>
                  <a:lnTo>
                    <a:pt x="3789" y="253"/>
                  </a:lnTo>
                  <a:lnTo>
                    <a:pt x="3723" y="225"/>
                  </a:lnTo>
                  <a:lnTo>
                    <a:pt x="3654" y="197"/>
                  </a:lnTo>
                  <a:lnTo>
                    <a:pt x="3585" y="172"/>
                  </a:lnTo>
                  <a:lnTo>
                    <a:pt x="3514" y="148"/>
                  </a:lnTo>
                  <a:lnTo>
                    <a:pt x="3445" y="126"/>
                  </a:lnTo>
                  <a:lnTo>
                    <a:pt x="3373" y="105"/>
                  </a:lnTo>
                  <a:lnTo>
                    <a:pt x="3301" y="87"/>
                  </a:lnTo>
                  <a:lnTo>
                    <a:pt x="3229" y="70"/>
                  </a:lnTo>
                  <a:lnTo>
                    <a:pt x="3156" y="56"/>
                  </a:lnTo>
                  <a:lnTo>
                    <a:pt x="3081" y="41"/>
                  </a:lnTo>
                  <a:lnTo>
                    <a:pt x="3006" y="31"/>
                  </a:lnTo>
                  <a:lnTo>
                    <a:pt x="2930" y="21"/>
                  </a:lnTo>
                  <a:lnTo>
                    <a:pt x="2855" y="14"/>
                  </a:lnTo>
                  <a:lnTo>
                    <a:pt x="2778" y="7"/>
                  </a:lnTo>
                  <a:lnTo>
                    <a:pt x="2701" y="4"/>
                  </a:lnTo>
                  <a:lnTo>
                    <a:pt x="2623" y="0"/>
                  </a:lnTo>
                  <a:lnTo>
                    <a:pt x="2545" y="0"/>
                  </a:lnTo>
                  <a:lnTo>
                    <a:pt x="2464" y="0"/>
                  </a:lnTo>
                  <a:lnTo>
                    <a:pt x="2386" y="4"/>
                  </a:lnTo>
                  <a:lnTo>
                    <a:pt x="2308" y="7"/>
                  </a:lnTo>
                  <a:lnTo>
                    <a:pt x="2232" y="14"/>
                  </a:lnTo>
                  <a:lnTo>
                    <a:pt x="2155" y="21"/>
                  </a:lnTo>
                  <a:lnTo>
                    <a:pt x="2080" y="31"/>
                  </a:lnTo>
                  <a:lnTo>
                    <a:pt x="2005" y="41"/>
                  </a:lnTo>
                  <a:lnTo>
                    <a:pt x="1931" y="56"/>
                  </a:lnTo>
                  <a:lnTo>
                    <a:pt x="1785" y="87"/>
                  </a:lnTo>
                  <a:lnTo>
                    <a:pt x="1712" y="105"/>
                  </a:lnTo>
                  <a:lnTo>
                    <a:pt x="1642" y="126"/>
                  </a:lnTo>
                  <a:lnTo>
                    <a:pt x="1571" y="148"/>
                  </a:lnTo>
                  <a:lnTo>
                    <a:pt x="1501" y="172"/>
                  </a:lnTo>
                  <a:lnTo>
                    <a:pt x="1432" y="197"/>
                  </a:lnTo>
                  <a:lnTo>
                    <a:pt x="1365" y="225"/>
                  </a:lnTo>
                  <a:lnTo>
                    <a:pt x="1297" y="253"/>
                  </a:lnTo>
                  <a:lnTo>
                    <a:pt x="1230" y="284"/>
                  </a:lnTo>
                  <a:lnTo>
                    <a:pt x="1164" y="316"/>
                  </a:lnTo>
                  <a:lnTo>
                    <a:pt x="1099" y="351"/>
                  </a:lnTo>
                  <a:lnTo>
                    <a:pt x="1033" y="386"/>
                  </a:lnTo>
                  <a:lnTo>
                    <a:pt x="970" y="425"/>
                  </a:lnTo>
                  <a:lnTo>
                    <a:pt x="906" y="464"/>
                  </a:lnTo>
                  <a:lnTo>
                    <a:pt x="845" y="506"/>
                  </a:lnTo>
                  <a:lnTo>
                    <a:pt x="721" y="594"/>
                  </a:lnTo>
                  <a:lnTo>
                    <a:pt x="661" y="640"/>
                  </a:lnTo>
                  <a:lnTo>
                    <a:pt x="602" y="689"/>
                  </a:lnTo>
                  <a:lnTo>
                    <a:pt x="543" y="738"/>
                  </a:lnTo>
                  <a:lnTo>
                    <a:pt x="485" y="791"/>
                  </a:lnTo>
                  <a:lnTo>
                    <a:pt x="428" y="844"/>
                  </a:lnTo>
                  <a:lnTo>
                    <a:pt x="372" y="901"/>
                  </a:lnTo>
                  <a:close/>
                </a:path>
              </a:pathLst>
            </a:custGeom>
            <a:solidFill>
              <a:srgbClr val="ed56ad"/>
            </a:solidFill>
            <a:ln w="28440">
              <a:solidFill>
                <a:srgbClr val="ffff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未知"/>
            <p:cNvSpPr/>
            <p:nvPr/>
          </p:nvSpPr>
          <p:spPr>
            <a:xfrm>
              <a:off x="5256360" y="3198600"/>
              <a:ext cx="1083960" cy="1525320"/>
            </a:xfrm>
            <a:custGeom>
              <a:avLst/>
              <a:gdLst/>
              <a:ahLst/>
              <a:rect l="l" t="t" r="r" b="b"/>
              <a:pathLst>
                <a:path w="3092" h="4803">
                  <a:moveTo>
                    <a:pt x="3073" y="4803"/>
                  </a:moveTo>
                  <a:lnTo>
                    <a:pt x="3092" y="1797"/>
                  </a:lnTo>
                  <a:lnTo>
                    <a:pt x="528" y="0"/>
                  </a:lnTo>
                  <a:lnTo>
                    <a:pt x="462" y="94"/>
                  </a:lnTo>
                  <a:lnTo>
                    <a:pt x="403" y="192"/>
                  </a:lnTo>
                  <a:lnTo>
                    <a:pt x="347" y="289"/>
                  </a:lnTo>
                  <a:lnTo>
                    <a:pt x="296" y="390"/>
                  </a:lnTo>
                  <a:lnTo>
                    <a:pt x="248" y="491"/>
                  </a:lnTo>
                  <a:lnTo>
                    <a:pt x="205" y="596"/>
                  </a:lnTo>
                  <a:lnTo>
                    <a:pt x="165" y="701"/>
                  </a:lnTo>
                  <a:lnTo>
                    <a:pt x="131" y="810"/>
                  </a:lnTo>
                  <a:lnTo>
                    <a:pt x="100" y="918"/>
                  </a:lnTo>
                  <a:lnTo>
                    <a:pt x="73" y="1029"/>
                  </a:lnTo>
                  <a:lnTo>
                    <a:pt x="51" y="1141"/>
                  </a:lnTo>
                  <a:lnTo>
                    <a:pt x="33" y="1257"/>
                  </a:lnTo>
                  <a:lnTo>
                    <a:pt x="17" y="1371"/>
                  </a:lnTo>
                  <a:lnTo>
                    <a:pt x="8" y="1489"/>
                  </a:lnTo>
                  <a:lnTo>
                    <a:pt x="1" y="1608"/>
                  </a:lnTo>
                  <a:lnTo>
                    <a:pt x="0" y="1731"/>
                  </a:lnTo>
                  <a:lnTo>
                    <a:pt x="0" y="1809"/>
                  </a:lnTo>
                  <a:lnTo>
                    <a:pt x="3" y="1887"/>
                  </a:lnTo>
                  <a:lnTo>
                    <a:pt x="7" y="1965"/>
                  </a:lnTo>
                  <a:lnTo>
                    <a:pt x="13" y="2043"/>
                  </a:lnTo>
                  <a:lnTo>
                    <a:pt x="20" y="2118"/>
                  </a:lnTo>
                  <a:lnTo>
                    <a:pt x="30" y="2194"/>
                  </a:lnTo>
                  <a:lnTo>
                    <a:pt x="41" y="2268"/>
                  </a:lnTo>
                  <a:lnTo>
                    <a:pt x="55" y="2343"/>
                  </a:lnTo>
                  <a:lnTo>
                    <a:pt x="69" y="2416"/>
                  </a:lnTo>
                  <a:lnTo>
                    <a:pt x="86" y="2488"/>
                  </a:lnTo>
                  <a:lnTo>
                    <a:pt x="104" y="2560"/>
                  </a:lnTo>
                  <a:lnTo>
                    <a:pt x="126" y="2631"/>
                  </a:lnTo>
                  <a:lnTo>
                    <a:pt x="147" y="2701"/>
                  </a:lnTo>
                  <a:lnTo>
                    <a:pt x="171" y="2771"/>
                  </a:lnTo>
                  <a:lnTo>
                    <a:pt x="196" y="2840"/>
                  </a:lnTo>
                  <a:lnTo>
                    <a:pt x="224" y="2909"/>
                  </a:lnTo>
                  <a:lnTo>
                    <a:pt x="253" y="2975"/>
                  </a:lnTo>
                  <a:lnTo>
                    <a:pt x="283" y="3042"/>
                  </a:lnTo>
                  <a:lnTo>
                    <a:pt x="315" y="3108"/>
                  </a:lnTo>
                  <a:lnTo>
                    <a:pt x="350" y="3173"/>
                  </a:lnTo>
                  <a:lnTo>
                    <a:pt x="385" y="3237"/>
                  </a:lnTo>
                  <a:lnTo>
                    <a:pt x="424" y="3302"/>
                  </a:lnTo>
                  <a:lnTo>
                    <a:pt x="464" y="3365"/>
                  </a:lnTo>
                  <a:lnTo>
                    <a:pt x="505" y="3429"/>
                  </a:lnTo>
                  <a:lnTo>
                    <a:pt x="547" y="3489"/>
                  </a:lnTo>
                  <a:lnTo>
                    <a:pt x="593" y="3550"/>
                  </a:lnTo>
                  <a:lnTo>
                    <a:pt x="639" y="3610"/>
                  </a:lnTo>
                  <a:lnTo>
                    <a:pt x="688" y="3670"/>
                  </a:lnTo>
                  <a:lnTo>
                    <a:pt x="737" y="3728"/>
                  </a:lnTo>
                  <a:lnTo>
                    <a:pt x="790" y="3787"/>
                  </a:lnTo>
                  <a:lnTo>
                    <a:pt x="843" y="3845"/>
                  </a:lnTo>
                  <a:lnTo>
                    <a:pt x="900" y="3903"/>
                  </a:lnTo>
                  <a:lnTo>
                    <a:pt x="956" y="3957"/>
                  </a:lnTo>
                  <a:lnTo>
                    <a:pt x="1013" y="4010"/>
                  </a:lnTo>
                  <a:lnTo>
                    <a:pt x="1071" y="4062"/>
                  </a:lnTo>
                  <a:lnTo>
                    <a:pt x="1130" y="4113"/>
                  </a:lnTo>
                  <a:lnTo>
                    <a:pt x="1189" y="4160"/>
                  </a:lnTo>
                  <a:lnTo>
                    <a:pt x="1249" y="4207"/>
                  </a:lnTo>
                  <a:lnTo>
                    <a:pt x="1311" y="4252"/>
                  </a:lnTo>
                  <a:lnTo>
                    <a:pt x="1373" y="4296"/>
                  </a:lnTo>
                  <a:lnTo>
                    <a:pt x="1434" y="4337"/>
                  </a:lnTo>
                  <a:lnTo>
                    <a:pt x="1498" y="4377"/>
                  </a:lnTo>
                  <a:lnTo>
                    <a:pt x="1561" y="4414"/>
                  </a:lnTo>
                  <a:lnTo>
                    <a:pt x="1627" y="4451"/>
                  </a:lnTo>
                  <a:lnTo>
                    <a:pt x="1692" y="4485"/>
                  </a:lnTo>
                  <a:lnTo>
                    <a:pt x="1758" y="4517"/>
                  </a:lnTo>
                  <a:lnTo>
                    <a:pt x="1825" y="4548"/>
                  </a:lnTo>
                  <a:lnTo>
                    <a:pt x="1893" y="4578"/>
                  </a:lnTo>
                  <a:lnTo>
                    <a:pt x="1960" y="4604"/>
                  </a:lnTo>
                  <a:lnTo>
                    <a:pt x="2029" y="4629"/>
                  </a:lnTo>
                  <a:lnTo>
                    <a:pt x="2099" y="4652"/>
                  </a:lnTo>
                  <a:lnTo>
                    <a:pt x="2170" y="4675"/>
                  </a:lnTo>
                  <a:lnTo>
                    <a:pt x="2240" y="4694"/>
                  </a:lnTo>
                  <a:lnTo>
                    <a:pt x="2313" y="4714"/>
                  </a:lnTo>
                  <a:lnTo>
                    <a:pt x="2386" y="4731"/>
                  </a:lnTo>
                  <a:lnTo>
                    <a:pt x="2459" y="4747"/>
                  </a:lnTo>
                  <a:lnTo>
                    <a:pt x="2533" y="4759"/>
                  </a:lnTo>
                  <a:lnTo>
                    <a:pt x="2608" y="4770"/>
                  </a:lnTo>
                  <a:lnTo>
                    <a:pt x="2683" y="4781"/>
                  </a:lnTo>
                  <a:lnTo>
                    <a:pt x="2760" y="4789"/>
                  </a:lnTo>
                  <a:lnTo>
                    <a:pt x="2836" y="4794"/>
                  </a:lnTo>
                  <a:lnTo>
                    <a:pt x="2914" y="4799"/>
                  </a:lnTo>
                  <a:lnTo>
                    <a:pt x="2992" y="4802"/>
                  </a:lnTo>
                  <a:lnTo>
                    <a:pt x="3073" y="4803"/>
                  </a:lnTo>
                  <a:close/>
                </a:path>
              </a:pathLst>
            </a:custGeom>
            <a:solidFill>
              <a:srgbClr val="77ecec"/>
            </a:solidFill>
            <a:ln w="28440">
              <a:solidFill>
                <a:srgbClr val="ffff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Text Box 11"/>
            <p:cNvSpPr/>
            <p:nvPr/>
          </p:nvSpPr>
          <p:spPr>
            <a:xfrm>
              <a:off x="5280840" y="3450960"/>
              <a:ext cx="1176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女生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0%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Text Box 12"/>
            <p:cNvSpPr/>
            <p:nvPr/>
          </p:nvSpPr>
          <p:spPr>
            <a:xfrm>
              <a:off x="6289200" y="3222360"/>
              <a:ext cx="1176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男生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%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1" name="Text Box 14"/>
          <p:cNvSpPr/>
          <p:nvPr/>
        </p:nvSpPr>
        <p:spPr>
          <a:xfrm>
            <a:off x="4210200" y="4869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各部分数量同总数的关系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Text Box 15"/>
          <p:cNvSpPr/>
          <p:nvPr/>
        </p:nvSpPr>
        <p:spPr>
          <a:xfrm>
            <a:off x="2851560" y="55339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各部分数量的多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Text Box 16"/>
          <p:cNvSpPr/>
          <p:nvPr/>
        </p:nvSpPr>
        <p:spPr>
          <a:xfrm>
            <a:off x="682560" y="40514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甲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Text Box 17"/>
          <p:cNvSpPr/>
          <p:nvPr/>
        </p:nvSpPr>
        <p:spPr>
          <a:xfrm>
            <a:off x="4425840" y="41274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乙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5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996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8" name="Text Box 13"/>
          <p:cNvSpPr/>
          <p:nvPr/>
        </p:nvSpPr>
        <p:spPr>
          <a:xfrm>
            <a:off x="539640" y="4869000"/>
            <a:ext cx="820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扇形统计图只能看出（                                       ） 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看出（                               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9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010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2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023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024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5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6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7" name="Text Box 5"/>
          <p:cNvSpPr/>
          <p:nvPr/>
        </p:nvSpPr>
        <p:spPr>
          <a:xfrm>
            <a:off x="503280" y="1916280"/>
            <a:ext cx="8640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年四班有学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竞赛中优秀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占全班学生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若制成扇形统计图，对应的扇形圆心角的度数为（　　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Text Box 6"/>
          <p:cNvSpPr/>
          <p:nvPr/>
        </p:nvSpPr>
        <p:spPr>
          <a:xfrm>
            <a:off x="2987640" y="2637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Text Box 7"/>
          <p:cNvSpPr/>
          <p:nvPr/>
        </p:nvSpPr>
        <p:spPr>
          <a:xfrm>
            <a:off x="4211640" y="3357720"/>
            <a:ext cx="8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0" name="组合 28"/>
          <p:cNvGrpSpPr/>
          <p:nvPr/>
        </p:nvGrpSpPr>
        <p:grpSpPr>
          <a:xfrm>
            <a:off x="3203640" y="4076640"/>
            <a:ext cx="2160360" cy="2160720"/>
            <a:chOff x="3203640" y="4076640"/>
            <a:chExt cx="2160360" cy="2160720"/>
          </a:xfrm>
        </p:grpSpPr>
        <p:sp>
          <p:nvSpPr>
            <p:cNvPr id="3031" name="椭圆 22"/>
            <p:cNvSpPr/>
            <p:nvPr/>
          </p:nvSpPr>
          <p:spPr>
            <a:xfrm>
              <a:off x="3203640" y="4076640"/>
              <a:ext cx="2160360" cy="2160720"/>
            </a:xfrm>
            <a:prstGeom prst="ellipse">
              <a:avLst/>
            </a:prstGeom>
            <a:solidFill>
              <a:srgbClr val="ffe08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饼形 23"/>
            <p:cNvSpPr/>
            <p:nvPr/>
          </p:nvSpPr>
          <p:spPr>
            <a:xfrm>
              <a:off x="3203640" y="4076640"/>
              <a:ext cx="2160360" cy="2160720"/>
            </a:xfrm>
            <a:custGeom>
              <a:avLst/>
              <a:gdLst/>
              <a:ahLst/>
              <a:rect l="l" t="t" r="r" b="b"/>
              <a:pathLst>
                <a:path w="2160240" h="2160240">
                  <a:moveTo>
                    <a:pt x="2160240" y="1080120"/>
                  </a:moveTo>
                  <a:cubicBezTo>
                    <a:pt x="2160240" y="1676654"/>
                    <a:pt x="1676654" y="2160240"/>
                    <a:pt x="1080120" y="2160240"/>
                  </a:cubicBezTo>
                  <a:cubicBezTo>
                    <a:pt x="483586" y="2160240"/>
                    <a:pt x="0" y="1676654"/>
                    <a:pt x="0" y="1080120"/>
                  </a:cubicBezTo>
                  <a:cubicBezTo>
                    <a:pt x="0" y="483586"/>
                    <a:pt x="483586" y="0"/>
                    <a:pt x="1080120" y="0"/>
                  </a:cubicBezTo>
                  <a:cubicBezTo>
                    <a:pt x="1080120" y="0"/>
                    <a:pt x="1080121" y="0"/>
                    <a:pt x="1080121" y="0"/>
                  </a:cubicBezTo>
                  <a:lnTo>
                    <a:pt x="1080120" y="1080120"/>
                  </a:lnTo>
                  <a:close/>
                </a:path>
              </a:pathLst>
            </a:custGeom>
            <a:solidFill>
              <a:srgbClr val="92d05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TextBox 24"/>
            <p:cNvSpPr/>
            <p:nvPr/>
          </p:nvSpPr>
          <p:spPr>
            <a:xfrm>
              <a:off x="4283640" y="4508640"/>
              <a:ext cx="93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优秀的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TextBox 27"/>
            <p:cNvSpPr/>
            <p:nvPr/>
          </p:nvSpPr>
          <p:spPr>
            <a:xfrm>
              <a:off x="3563640" y="5013000"/>
              <a:ext cx="93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全班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3" dur="1000"/>
                                        <p:tgtEl>
                                          <p:spTgt spid="3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8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3" dur="2000"/>
                                        <p:tgtEl>
                                          <p:spTgt spid="3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5" name="Group 2"/>
          <p:cNvGrpSpPr/>
          <p:nvPr/>
        </p:nvGrpSpPr>
        <p:grpSpPr>
          <a:xfrm>
            <a:off x="428760" y="857160"/>
            <a:ext cx="6842160" cy="1080720"/>
            <a:chOff x="428760" y="857160"/>
            <a:chExt cx="6842160" cy="1080720"/>
          </a:xfrm>
        </p:grpSpPr>
        <p:sp>
          <p:nvSpPr>
            <p:cNvPr id="2496" name="Oval 3"/>
            <p:cNvSpPr/>
            <p:nvPr/>
          </p:nvSpPr>
          <p:spPr>
            <a:xfrm>
              <a:off x="42876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Oval 4"/>
            <p:cNvSpPr/>
            <p:nvPr/>
          </p:nvSpPr>
          <p:spPr>
            <a:xfrm>
              <a:off x="140652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Oval 5"/>
            <p:cNvSpPr/>
            <p:nvPr/>
          </p:nvSpPr>
          <p:spPr>
            <a:xfrm>
              <a:off x="194148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Oval 6"/>
            <p:cNvSpPr/>
            <p:nvPr/>
          </p:nvSpPr>
          <p:spPr>
            <a:xfrm>
              <a:off x="240516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Oval 7"/>
            <p:cNvSpPr/>
            <p:nvPr/>
          </p:nvSpPr>
          <p:spPr>
            <a:xfrm>
              <a:off x="312912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Oval 8"/>
            <p:cNvSpPr/>
            <p:nvPr/>
          </p:nvSpPr>
          <p:spPr>
            <a:xfrm>
              <a:off x="355608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Oval 9"/>
            <p:cNvSpPr/>
            <p:nvPr/>
          </p:nvSpPr>
          <p:spPr>
            <a:xfrm>
              <a:off x="407016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Oval 10"/>
            <p:cNvSpPr/>
            <p:nvPr/>
          </p:nvSpPr>
          <p:spPr>
            <a:xfrm>
              <a:off x="439272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Oval 11"/>
            <p:cNvSpPr/>
            <p:nvPr/>
          </p:nvSpPr>
          <p:spPr>
            <a:xfrm>
              <a:off x="489276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Oval 12"/>
            <p:cNvSpPr/>
            <p:nvPr/>
          </p:nvSpPr>
          <p:spPr>
            <a:xfrm>
              <a:off x="536112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Oval 13"/>
            <p:cNvSpPr/>
            <p:nvPr/>
          </p:nvSpPr>
          <p:spPr>
            <a:xfrm>
              <a:off x="606600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Oval 14"/>
            <p:cNvSpPr/>
            <p:nvPr/>
          </p:nvSpPr>
          <p:spPr>
            <a:xfrm>
              <a:off x="686016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8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09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10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1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2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观察思考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3" name="Text Box 10"/>
          <p:cNvSpPr/>
          <p:nvPr/>
        </p:nvSpPr>
        <p:spPr>
          <a:xfrm>
            <a:off x="2619360" y="2298600"/>
            <a:ext cx="29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百分数的意义与读写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Text Box 16"/>
          <p:cNvSpPr/>
          <p:nvPr/>
        </p:nvSpPr>
        <p:spPr>
          <a:xfrm>
            <a:off x="1835280" y="29973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百分数和分数、小数的互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Text Box 17"/>
          <p:cNvSpPr/>
          <p:nvPr/>
        </p:nvSpPr>
        <p:spPr>
          <a:xfrm>
            <a:off x="1835280" y="37180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用百分数解决问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Text Box 17"/>
          <p:cNvSpPr/>
          <p:nvPr/>
        </p:nvSpPr>
        <p:spPr>
          <a:xfrm>
            <a:off x="1835280" y="43149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认识扇形统计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Text Box 17"/>
          <p:cNvSpPr/>
          <p:nvPr/>
        </p:nvSpPr>
        <p:spPr>
          <a:xfrm>
            <a:off x="1835280" y="50338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选择合适的统计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5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036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8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049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050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1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2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3" name="矩形 24"/>
          <p:cNvSpPr/>
          <p:nvPr/>
        </p:nvSpPr>
        <p:spPr>
          <a:xfrm>
            <a:off x="3445560" y="155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选择合适的统计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TextBox 28"/>
          <p:cNvSpPr/>
          <p:nvPr/>
        </p:nvSpPr>
        <p:spPr>
          <a:xfrm>
            <a:off x="1116000" y="2492280"/>
            <a:ext cx="628668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扇形统计图：可以清楚地表示各部分数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量与总量之间的关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TextBox 29"/>
          <p:cNvSpPr/>
          <p:nvPr/>
        </p:nvSpPr>
        <p:spPr>
          <a:xfrm>
            <a:off x="1116000" y="3635280"/>
            <a:ext cx="628668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条形统计图：可以清楚地表示各部分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量的多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TextBox 30"/>
          <p:cNvSpPr/>
          <p:nvPr/>
        </p:nvSpPr>
        <p:spPr>
          <a:xfrm>
            <a:off x="1116000" y="4707000"/>
            <a:ext cx="628668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折线统计图：可以清楚地表示数量的变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化情况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3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5" dur="500"/>
                                        <p:tgtEl>
                                          <p:spTgt spid="3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7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058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0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071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072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3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4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5" name="Rectangle 3"/>
          <p:cNvSpPr/>
          <p:nvPr/>
        </p:nvSpPr>
        <p:spPr>
          <a:xfrm>
            <a:off x="324000" y="2060640"/>
            <a:ext cx="864072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要想清楚地表示出各部分同总数之间的关系，选用（　    ）统计图较好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只要表示数量的多少，最好绘制成（　　　）统计图； 要表示某地区下半年平均每月气温变化情况，可把它制成（　　　）统计图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矩形 24"/>
          <p:cNvSpPr/>
          <p:nvPr/>
        </p:nvSpPr>
        <p:spPr>
          <a:xfrm>
            <a:off x="3445560" y="155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选择合适的统计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Text Box 6"/>
          <p:cNvSpPr/>
          <p:nvPr/>
        </p:nvSpPr>
        <p:spPr>
          <a:xfrm>
            <a:off x="7667640" y="211284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扇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Text Box 7"/>
          <p:cNvSpPr/>
          <p:nvPr/>
        </p:nvSpPr>
        <p:spPr>
          <a:xfrm>
            <a:off x="7548480" y="26370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条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Text Box 8"/>
          <p:cNvSpPr/>
          <p:nvPr/>
        </p:nvSpPr>
        <p:spPr>
          <a:xfrm>
            <a:off x="1979640" y="3789360"/>
            <a:ext cx="106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折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0" name="图片 25" descr="t01b7d442bbe0a4ee72.jpg"/>
          <p:cNvPicPr/>
          <p:nvPr/>
        </p:nvPicPr>
        <p:blipFill>
          <a:blip r:embed="rId2"/>
          <a:stretch/>
        </p:blipFill>
        <p:spPr>
          <a:xfrm>
            <a:off x="755640" y="4292640"/>
            <a:ext cx="1989000" cy="1989000"/>
          </a:xfrm>
          <a:prstGeom prst="rect">
            <a:avLst/>
          </a:prstGeom>
          <a:ln w="0">
            <a:noFill/>
          </a:ln>
        </p:spPr>
      </p:pic>
      <p:pic>
        <p:nvPicPr>
          <p:cNvPr id="3081" name="图片 26" descr="59a5b19545207fa574198.jpg"/>
          <p:cNvPicPr/>
          <p:nvPr/>
        </p:nvPicPr>
        <p:blipFill>
          <a:blip r:embed="rId3"/>
          <a:stretch/>
        </p:blipFill>
        <p:spPr>
          <a:xfrm>
            <a:off x="3132000" y="4365720"/>
            <a:ext cx="2303640" cy="1763640"/>
          </a:xfrm>
          <a:prstGeom prst="rect">
            <a:avLst/>
          </a:prstGeom>
          <a:ln w="0">
            <a:noFill/>
          </a:ln>
        </p:spPr>
      </p:pic>
      <p:pic>
        <p:nvPicPr>
          <p:cNvPr id="3082" name="图片 27" descr="20140522095025_2828.jpg"/>
          <p:cNvPicPr/>
          <p:nvPr/>
        </p:nvPicPr>
        <p:blipFill>
          <a:blip r:embed="rId4"/>
          <a:stretch/>
        </p:blipFill>
        <p:spPr>
          <a:xfrm>
            <a:off x="5580000" y="3860640"/>
            <a:ext cx="3313080" cy="232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3" dur="2000"/>
                                        <p:tgtEl>
                                          <p:spTgt spid="3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3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3" dur="2000"/>
                                        <p:tgtEl>
                                          <p:spTgt spid="3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3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3" dur="500"/>
                                        <p:tgtEl>
                                          <p:spTgt spid="3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3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084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6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097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098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9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0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1" name="Text Box 4"/>
          <p:cNvSpPr/>
          <p:nvPr/>
        </p:nvSpPr>
        <p:spPr>
          <a:xfrm>
            <a:off x="395280" y="1413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图是王大妈批发的三种蔬菜。其中茄子的千克数是三种蔬菜总量的（　　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黄瓜的千克数是西红柿的（　　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其中，茄子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，黄瓜是（        ）千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2" name="Object 2" descr=""/>
          <p:cNvPicPr/>
          <p:nvPr/>
        </p:nvPicPr>
        <p:blipFill>
          <a:blip r:embed="rId2"/>
          <a:stretch/>
        </p:blipFill>
        <p:spPr>
          <a:xfrm>
            <a:off x="900000" y="2776680"/>
            <a:ext cx="7315200" cy="3965400"/>
          </a:xfrm>
          <a:prstGeom prst="rect">
            <a:avLst/>
          </a:prstGeom>
          <a:ln w="0">
            <a:noFill/>
          </a:ln>
        </p:spPr>
      </p:pic>
      <p:sp>
        <p:nvSpPr>
          <p:cNvPr id="3103" name="Text Box 6"/>
          <p:cNvSpPr/>
          <p:nvPr/>
        </p:nvSpPr>
        <p:spPr>
          <a:xfrm>
            <a:off x="1933560" y="198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Text Box 7"/>
          <p:cNvSpPr/>
          <p:nvPr/>
        </p:nvSpPr>
        <p:spPr>
          <a:xfrm>
            <a:off x="7056360" y="198900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5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Text Box 8"/>
          <p:cNvSpPr/>
          <p:nvPr/>
        </p:nvSpPr>
        <p:spPr>
          <a:xfrm>
            <a:off x="4643280" y="242100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1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3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6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107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9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120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121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2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3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4" name="Group 7"/>
          <p:cNvGrpSpPr/>
          <p:nvPr/>
        </p:nvGrpSpPr>
        <p:grpSpPr>
          <a:xfrm>
            <a:off x="324000" y="1989000"/>
            <a:ext cx="8424360" cy="3624120"/>
            <a:chOff x="324000" y="1989000"/>
            <a:chExt cx="8424360" cy="3624120"/>
          </a:xfrm>
        </p:grpSpPr>
        <p:pic>
          <p:nvPicPr>
            <p:cNvPr id="3125" name="Object 3" descr=""/>
            <p:cNvPicPr/>
            <p:nvPr/>
          </p:nvPicPr>
          <p:blipFill>
            <a:blip r:embed="rId2"/>
            <a:stretch/>
          </p:blipFill>
          <p:spPr>
            <a:xfrm>
              <a:off x="324000" y="1989000"/>
              <a:ext cx="8424360" cy="36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6" name="Text Box 9"/>
            <p:cNvSpPr/>
            <p:nvPr/>
          </p:nvSpPr>
          <p:spPr>
            <a:xfrm>
              <a:off x="4234680" y="3402360"/>
              <a:ext cx="11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亚洲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9.3%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Text Box 10"/>
            <p:cNvSpPr/>
            <p:nvPr/>
          </p:nvSpPr>
          <p:spPr>
            <a:xfrm>
              <a:off x="3953880" y="3907440"/>
              <a:ext cx="11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非洲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.2%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Text Box 11"/>
            <p:cNvSpPr/>
            <p:nvPr/>
          </p:nvSpPr>
          <p:spPr>
            <a:xfrm>
              <a:off x="2317320" y="3907440"/>
              <a:ext cx="12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北美洲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.1%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Text Box 12"/>
            <p:cNvSpPr/>
            <p:nvPr/>
          </p:nvSpPr>
          <p:spPr>
            <a:xfrm>
              <a:off x="912240" y="3604320"/>
              <a:ext cx="110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宋体"/>
                </a:rPr>
                <a:t>南美洲</a:t>
              </a: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12%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Text Box 13"/>
            <p:cNvSpPr/>
            <p:nvPr/>
          </p:nvSpPr>
          <p:spPr>
            <a:xfrm>
              <a:off x="818640" y="3301560"/>
              <a:ext cx="116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宋体"/>
                </a:rPr>
                <a:t>南极洲</a:t>
              </a: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9.3%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Text Box 14"/>
            <p:cNvSpPr/>
            <p:nvPr/>
          </p:nvSpPr>
          <p:spPr>
            <a:xfrm>
              <a:off x="1705320" y="299880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宋体"/>
                </a:rPr>
                <a:t>欧洲</a:t>
              </a: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7.1%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Text Box 15"/>
            <p:cNvSpPr/>
            <p:nvPr/>
          </p:nvSpPr>
          <p:spPr>
            <a:xfrm>
              <a:off x="2783160" y="3099240"/>
              <a:ext cx="97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宋体"/>
                </a:rPr>
                <a:t>大洋洲</a:t>
              </a: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6%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3" name="Rectangle 16"/>
          <p:cNvSpPr/>
          <p:nvPr/>
        </p:nvSpPr>
        <p:spPr>
          <a:xfrm>
            <a:off x="4479840" y="2039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Rectangle 2"/>
          <p:cNvSpPr/>
          <p:nvPr/>
        </p:nvSpPr>
        <p:spPr>
          <a:xfrm>
            <a:off x="544680" y="106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下图 ，并回答下面的几个问题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Text Box 3"/>
          <p:cNvSpPr/>
          <p:nvPr/>
        </p:nvSpPr>
        <p:spPr>
          <a:xfrm>
            <a:off x="466560" y="4941720"/>
            <a:ext cx="540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全世界共有几大洲？哪个洲面积最大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Text Box 4"/>
          <p:cNvSpPr/>
          <p:nvPr/>
        </p:nvSpPr>
        <p:spPr>
          <a:xfrm>
            <a:off x="468360" y="5521320"/>
            <a:ext cx="68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哪两个洲的面积之和最接近地球陆地总面积的一半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3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0" dur="500"/>
                                        <p:tgtEl>
                                          <p:spTgt spid="3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138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0" name="Text Box 29" descr=""/>
          <p:cNvPicPr/>
          <p:nvPr/>
        </p:nvPicPr>
        <p:blipFill>
          <a:blip r:embed="rId1"/>
          <a:stretch/>
        </p:blipFill>
        <p:spPr>
          <a:xfrm>
            <a:off x="285840" y="2071800"/>
            <a:ext cx="7778520" cy="3700440"/>
          </a:xfrm>
          <a:prstGeom prst="rect">
            <a:avLst/>
          </a:prstGeom>
          <a:ln w="0">
            <a:noFill/>
          </a:ln>
        </p:spPr>
      </p:pic>
      <p:grpSp>
        <p:nvGrpSpPr>
          <p:cNvPr id="3151" name="Group 2"/>
          <p:cNvGrpSpPr/>
          <p:nvPr/>
        </p:nvGrpSpPr>
        <p:grpSpPr>
          <a:xfrm>
            <a:off x="6429240" y="357120"/>
            <a:ext cx="2070360" cy="432000"/>
            <a:chOff x="6429240" y="357120"/>
            <a:chExt cx="2070360" cy="432000"/>
          </a:xfrm>
        </p:grpSpPr>
        <p:grpSp>
          <p:nvGrpSpPr>
            <p:cNvPr id="3152" name="Group 3"/>
            <p:cNvGrpSpPr/>
            <p:nvPr/>
          </p:nvGrpSpPr>
          <p:grpSpPr>
            <a:xfrm>
              <a:off x="6429240" y="357120"/>
              <a:ext cx="2070360" cy="432000"/>
              <a:chOff x="6429240" y="357120"/>
              <a:chExt cx="2070360" cy="432000"/>
            </a:xfrm>
          </p:grpSpPr>
          <p:pic>
            <p:nvPicPr>
              <p:cNvPr id="3153" name="五边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240" y="357120"/>
                <a:ext cx="207036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4" name="Text Box 6"/>
              <p:cNvSpPr/>
              <p:nvPr/>
            </p:nvSpPr>
            <p:spPr>
              <a:xfrm>
                <a:off x="6466320" y="384480"/>
                <a:ext cx="203328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5" name="五边形 4"/>
            <p:cNvSpPr/>
            <p:nvPr/>
          </p:nvSpPr>
          <p:spPr>
            <a:xfrm>
              <a:off x="6466320" y="384480"/>
              <a:ext cx="1813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心灵感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1000"/>
                                        <p:tgtEl>
                                          <p:spTgt spid="3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8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519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1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32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33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4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5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观察思考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6" name="Text Box 13"/>
          <p:cNvSpPr/>
          <p:nvPr/>
        </p:nvSpPr>
        <p:spPr>
          <a:xfrm>
            <a:off x="324000" y="256536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表示一个数是另一个数的百分之几的数，叫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百分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百分数也叫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百分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百分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Text Box 16"/>
          <p:cNvSpPr/>
          <p:nvPr/>
        </p:nvSpPr>
        <p:spPr>
          <a:xfrm>
            <a:off x="1187280" y="1773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百分数的意义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539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1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52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53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4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5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6" name="Text Box 2"/>
          <p:cNvSpPr/>
          <p:nvPr/>
        </p:nvSpPr>
        <p:spPr>
          <a:xfrm>
            <a:off x="1403280" y="16858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华文新魏"/>
              </a:rPr>
              <a:t>百分数应该用什么形式表示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Text Box 4"/>
          <p:cNvSpPr/>
          <p:nvPr/>
        </p:nvSpPr>
        <p:spPr>
          <a:xfrm>
            <a:off x="684360" y="3573360"/>
            <a:ext cx="806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例如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百分之九十　　　　　写作　：９０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百分之六十四　　　　写作　：６４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百分之一百零八点五　写作　：１０８．５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Text Box 3"/>
          <p:cNvSpPr/>
          <p:nvPr/>
        </p:nvSpPr>
        <p:spPr>
          <a:xfrm>
            <a:off x="395280" y="2421000"/>
            <a:ext cx="856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写法：写百分数时，通常不写成分数形式，而采用％表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写百分数时，去掉分数线和分母，在分子后面添上百分号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1000"/>
                                        <p:tgtEl>
                                          <p:spTgt spid="2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9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560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2" name="Text Box 5"/>
          <p:cNvSpPr/>
          <p:nvPr/>
        </p:nvSpPr>
        <p:spPr>
          <a:xfrm>
            <a:off x="468360" y="1916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读法：读百分数时，只要把百分数看作分母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分数，百分号前面的数看作分子，就可以和分数一样读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矩形 20"/>
          <p:cNvSpPr/>
          <p:nvPr/>
        </p:nvSpPr>
        <p:spPr>
          <a:xfrm>
            <a:off x="826920" y="3500280"/>
            <a:ext cx="734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例如： ７５％　    读作：　百分之七十五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　　　１５０％　　 读作：　百分之一百五十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　　　０．８％　　 读作：　百分之零点八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4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75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76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7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8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9" name="Group 2"/>
          <p:cNvGrpSpPr/>
          <p:nvPr/>
        </p:nvGrpSpPr>
        <p:grpSpPr>
          <a:xfrm>
            <a:off x="250920" y="836640"/>
            <a:ext cx="6842160" cy="1080720"/>
            <a:chOff x="250920" y="836640"/>
            <a:chExt cx="6842160" cy="1080720"/>
          </a:xfrm>
        </p:grpSpPr>
        <p:sp>
          <p:nvSpPr>
            <p:cNvPr id="2580" name="Oval 3"/>
            <p:cNvSpPr/>
            <p:nvPr/>
          </p:nvSpPr>
          <p:spPr>
            <a:xfrm>
              <a:off x="250920" y="98244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Oval 4"/>
            <p:cNvSpPr/>
            <p:nvPr/>
          </p:nvSpPr>
          <p:spPr>
            <a:xfrm>
              <a:off x="1228680" y="97596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Oval 5"/>
            <p:cNvSpPr/>
            <p:nvPr/>
          </p:nvSpPr>
          <p:spPr>
            <a:xfrm>
              <a:off x="1763640" y="92412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Oval 6"/>
            <p:cNvSpPr/>
            <p:nvPr/>
          </p:nvSpPr>
          <p:spPr>
            <a:xfrm>
              <a:off x="2227320" y="92412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Oval 7"/>
            <p:cNvSpPr/>
            <p:nvPr/>
          </p:nvSpPr>
          <p:spPr>
            <a:xfrm>
              <a:off x="2951280" y="92412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Oval 8"/>
            <p:cNvSpPr/>
            <p:nvPr/>
          </p:nvSpPr>
          <p:spPr>
            <a:xfrm>
              <a:off x="3378240" y="836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Oval 9"/>
            <p:cNvSpPr/>
            <p:nvPr/>
          </p:nvSpPr>
          <p:spPr>
            <a:xfrm>
              <a:off x="3892320" y="92412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Oval 10"/>
            <p:cNvSpPr/>
            <p:nvPr/>
          </p:nvSpPr>
          <p:spPr>
            <a:xfrm>
              <a:off x="4214880" y="83664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Oval 11"/>
            <p:cNvSpPr/>
            <p:nvPr/>
          </p:nvSpPr>
          <p:spPr>
            <a:xfrm>
              <a:off x="4714920" y="100656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Oval 12"/>
            <p:cNvSpPr/>
            <p:nvPr/>
          </p:nvSpPr>
          <p:spPr>
            <a:xfrm>
              <a:off x="5183280" y="92412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Oval 13"/>
            <p:cNvSpPr/>
            <p:nvPr/>
          </p:nvSpPr>
          <p:spPr>
            <a:xfrm>
              <a:off x="5888160" y="836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Oval 14"/>
            <p:cNvSpPr/>
            <p:nvPr/>
          </p:nvSpPr>
          <p:spPr>
            <a:xfrm>
              <a:off x="6682320" y="92412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92" name=""/>
          <p:cNvGraphicFramePr/>
          <p:nvPr/>
        </p:nvGraphicFramePr>
        <p:xfrm>
          <a:off x="539640" y="2852640"/>
          <a:ext cx="8136000" cy="2487600"/>
        </p:xfrm>
        <a:graphic>
          <a:graphicData uri="http://schemas.openxmlformats.org/drawingml/2006/table">
            <a:tbl>
              <a:tblPr/>
              <a:tblGrid>
                <a:gridCol w="1727280"/>
                <a:gridCol w="2809800"/>
                <a:gridCol w="359892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联系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区别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百分数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都可以表示两个数量间的倍数关系。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不是一个具体的数量，不带计量单位名称。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分数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还可以表示一个具体的数量，可带单位名称。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3" name="矩形 20"/>
          <p:cNvSpPr/>
          <p:nvPr/>
        </p:nvSpPr>
        <p:spPr>
          <a:xfrm>
            <a:off x="2836800" y="17002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百分数与分数和联系与区别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4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95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96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7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8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9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600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2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613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614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5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6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练习巩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7" name="Text Box 4"/>
          <p:cNvSpPr/>
          <p:nvPr/>
        </p:nvSpPr>
        <p:spPr>
          <a:xfrm>
            <a:off x="2076120" y="1481040"/>
            <a:ext cx="21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数与分数互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Text Box 5"/>
          <p:cNvSpPr/>
          <p:nvPr/>
        </p:nvSpPr>
        <p:spPr>
          <a:xfrm>
            <a:off x="1835280" y="24177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Text Box 6"/>
          <p:cNvSpPr/>
          <p:nvPr/>
        </p:nvSpPr>
        <p:spPr>
          <a:xfrm>
            <a:off x="1763640" y="319896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Text Box 7"/>
          <p:cNvSpPr/>
          <p:nvPr/>
        </p:nvSpPr>
        <p:spPr>
          <a:xfrm>
            <a:off x="1547640" y="393876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2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1" name="Group 8"/>
          <p:cNvGrpSpPr/>
          <p:nvPr/>
        </p:nvGrpSpPr>
        <p:grpSpPr>
          <a:xfrm>
            <a:off x="5296680" y="3054240"/>
            <a:ext cx="543600" cy="948600"/>
            <a:chOff x="5296680" y="3054240"/>
            <a:chExt cx="543600" cy="948600"/>
          </a:xfrm>
        </p:grpSpPr>
        <p:sp>
          <p:nvSpPr>
            <p:cNvPr id="2622" name="Text Box 9"/>
            <p:cNvSpPr/>
            <p:nvPr/>
          </p:nvSpPr>
          <p:spPr>
            <a:xfrm>
              <a:off x="5390640" y="3054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Text Box 10"/>
            <p:cNvSpPr/>
            <p:nvPr/>
          </p:nvSpPr>
          <p:spPr>
            <a:xfrm>
              <a:off x="5296680" y="3543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Line 11"/>
            <p:cNvSpPr/>
            <p:nvPr/>
          </p:nvSpPr>
          <p:spPr>
            <a:xfrm>
              <a:off x="5327640" y="3568680"/>
              <a:ext cx="5126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5" name="Group 12"/>
          <p:cNvGrpSpPr/>
          <p:nvPr/>
        </p:nvGrpSpPr>
        <p:grpSpPr>
          <a:xfrm>
            <a:off x="5292720" y="2241720"/>
            <a:ext cx="533520" cy="948600"/>
            <a:chOff x="5292720" y="2241720"/>
            <a:chExt cx="533520" cy="948600"/>
          </a:xfrm>
        </p:grpSpPr>
        <p:sp>
          <p:nvSpPr>
            <p:cNvPr id="2626" name="Text Box 13"/>
            <p:cNvSpPr/>
            <p:nvPr/>
          </p:nvSpPr>
          <p:spPr>
            <a:xfrm>
              <a:off x="5355720" y="2241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Text Box 14"/>
            <p:cNvSpPr/>
            <p:nvPr/>
          </p:nvSpPr>
          <p:spPr>
            <a:xfrm>
              <a:off x="5371560" y="273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Line 15"/>
            <p:cNvSpPr/>
            <p:nvPr/>
          </p:nvSpPr>
          <p:spPr>
            <a:xfrm>
              <a:off x="5292720" y="275616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9" name="Group 16"/>
          <p:cNvGrpSpPr/>
          <p:nvPr/>
        </p:nvGrpSpPr>
        <p:grpSpPr>
          <a:xfrm>
            <a:off x="5364000" y="3938760"/>
            <a:ext cx="533520" cy="928080"/>
            <a:chOff x="5364000" y="3938760"/>
            <a:chExt cx="533520" cy="928080"/>
          </a:xfrm>
        </p:grpSpPr>
        <p:sp>
          <p:nvSpPr>
            <p:cNvPr id="2630" name="Text Box 17"/>
            <p:cNvSpPr/>
            <p:nvPr/>
          </p:nvSpPr>
          <p:spPr>
            <a:xfrm>
              <a:off x="5427000" y="393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Text Box 18"/>
            <p:cNvSpPr/>
            <p:nvPr/>
          </p:nvSpPr>
          <p:spPr>
            <a:xfrm>
              <a:off x="5422320" y="4407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Line 19"/>
            <p:cNvSpPr/>
            <p:nvPr/>
          </p:nvSpPr>
          <p:spPr>
            <a:xfrm>
              <a:off x="5364000" y="445320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3" name="Group 20"/>
          <p:cNvGrpSpPr/>
          <p:nvPr/>
        </p:nvGrpSpPr>
        <p:grpSpPr>
          <a:xfrm>
            <a:off x="2620800" y="2241720"/>
            <a:ext cx="1036800" cy="907200"/>
            <a:chOff x="2620800" y="2241720"/>
            <a:chExt cx="1036800" cy="907200"/>
          </a:xfrm>
        </p:grpSpPr>
        <p:sp>
          <p:nvSpPr>
            <p:cNvPr id="2634" name="Text Box 21"/>
            <p:cNvSpPr/>
            <p:nvPr/>
          </p:nvSpPr>
          <p:spPr>
            <a:xfrm>
              <a:off x="2620800" y="2435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5" name="Group 22"/>
            <p:cNvGrpSpPr/>
            <p:nvPr/>
          </p:nvGrpSpPr>
          <p:grpSpPr>
            <a:xfrm>
              <a:off x="3124440" y="2241720"/>
              <a:ext cx="533160" cy="907200"/>
              <a:chOff x="3124440" y="2241720"/>
              <a:chExt cx="533160" cy="907200"/>
            </a:xfrm>
          </p:grpSpPr>
          <p:sp>
            <p:nvSpPr>
              <p:cNvPr id="2636" name="Text Box 23"/>
              <p:cNvSpPr/>
              <p:nvPr/>
            </p:nvSpPr>
            <p:spPr>
              <a:xfrm>
                <a:off x="3187080" y="2241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Text Box 24"/>
              <p:cNvSpPr/>
              <p:nvPr/>
            </p:nvSpPr>
            <p:spPr>
              <a:xfrm>
                <a:off x="3182040" y="2689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Line 25"/>
              <p:cNvSpPr/>
              <p:nvPr/>
            </p:nvSpPr>
            <p:spPr>
              <a:xfrm>
                <a:off x="3124440" y="2700000"/>
                <a:ext cx="533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9" name="Group 26"/>
          <p:cNvGrpSpPr/>
          <p:nvPr/>
        </p:nvGrpSpPr>
        <p:grpSpPr>
          <a:xfrm>
            <a:off x="2620800" y="2982960"/>
            <a:ext cx="1186200" cy="907560"/>
            <a:chOff x="2620800" y="2982960"/>
            <a:chExt cx="1186200" cy="907560"/>
          </a:xfrm>
        </p:grpSpPr>
        <p:sp>
          <p:nvSpPr>
            <p:cNvPr id="2640" name="Text Box 27"/>
            <p:cNvSpPr/>
            <p:nvPr/>
          </p:nvSpPr>
          <p:spPr>
            <a:xfrm>
              <a:off x="2620800" y="3176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Text Box 28"/>
            <p:cNvSpPr/>
            <p:nvPr/>
          </p:nvSpPr>
          <p:spPr>
            <a:xfrm>
              <a:off x="3207960" y="298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Text Box 29"/>
            <p:cNvSpPr/>
            <p:nvPr/>
          </p:nvSpPr>
          <p:spPr>
            <a:xfrm>
              <a:off x="3013200" y="3430800"/>
              <a:ext cx="7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Line 30"/>
            <p:cNvSpPr/>
            <p:nvPr/>
          </p:nvSpPr>
          <p:spPr>
            <a:xfrm>
              <a:off x="3124440" y="3408480"/>
              <a:ext cx="53316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4" name="Group 31"/>
          <p:cNvGrpSpPr/>
          <p:nvPr/>
        </p:nvGrpSpPr>
        <p:grpSpPr>
          <a:xfrm>
            <a:off x="2692080" y="3794040"/>
            <a:ext cx="1036800" cy="907560"/>
            <a:chOff x="2692080" y="3794040"/>
            <a:chExt cx="1036800" cy="907560"/>
          </a:xfrm>
        </p:grpSpPr>
        <p:sp>
          <p:nvSpPr>
            <p:cNvPr id="2645" name="Text Box 32"/>
            <p:cNvSpPr/>
            <p:nvPr/>
          </p:nvSpPr>
          <p:spPr>
            <a:xfrm>
              <a:off x="2692080" y="3987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6" name="Group 33"/>
            <p:cNvGrpSpPr/>
            <p:nvPr/>
          </p:nvGrpSpPr>
          <p:grpSpPr>
            <a:xfrm>
              <a:off x="3195720" y="3794040"/>
              <a:ext cx="533160" cy="907560"/>
              <a:chOff x="3195720" y="3794040"/>
              <a:chExt cx="533160" cy="907560"/>
            </a:xfrm>
          </p:grpSpPr>
          <p:sp>
            <p:nvSpPr>
              <p:cNvPr id="2647" name="Text Box 34"/>
              <p:cNvSpPr/>
              <p:nvPr/>
            </p:nvSpPr>
            <p:spPr>
              <a:xfrm>
                <a:off x="3258360" y="3794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Text Box 35"/>
              <p:cNvSpPr/>
              <p:nvPr/>
            </p:nvSpPr>
            <p:spPr>
              <a:xfrm>
                <a:off x="3253320" y="4241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Line 36"/>
              <p:cNvSpPr/>
              <p:nvPr/>
            </p:nvSpPr>
            <p:spPr>
              <a:xfrm>
                <a:off x="3195720" y="4221000"/>
                <a:ext cx="533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0" name="Text Box 37"/>
          <p:cNvSpPr/>
          <p:nvPr/>
        </p:nvSpPr>
        <p:spPr>
          <a:xfrm>
            <a:off x="5923440" y="241776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0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Text Box 38"/>
          <p:cNvSpPr/>
          <p:nvPr/>
        </p:nvSpPr>
        <p:spPr>
          <a:xfrm>
            <a:off x="5913000" y="327024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0.0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Text Box 39"/>
          <p:cNvSpPr/>
          <p:nvPr/>
        </p:nvSpPr>
        <p:spPr>
          <a:xfrm>
            <a:off x="5922000" y="4083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0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Text Box 40"/>
          <p:cNvSpPr/>
          <p:nvPr/>
        </p:nvSpPr>
        <p:spPr>
          <a:xfrm>
            <a:off x="2332440" y="4869000"/>
            <a:ext cx="47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先化成分母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的分数，再约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Text Box 41"/>
          <p:cNvSpPr/>
          <p:nvPr/>
        </p:nvSpPr>
        <p:spPr>
          <a:xfrm>
            <a:off x="2195640" y="580536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用分子除以分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Line 42"/>
          <p:cNvSpPr/>
          <p:nvPr/>
        </p:nvSpPr>
        <p:spPr>
          <a:xfrm>
            <a:off x="1619280" y="5373720"/>
            <a:ext cx="612144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Line 43"/>
          <p:cNvSpPr/>
          <p:nvPr/>
        </p:nvSpPr>
        <p:spPr>
          <a:xfrm flipH="1">
            <a:off x="1476360" y="5661000"/>
            <a:ext cx="61200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Text Box 44"/>
          <p:cNvSpPr/>
          <p:nvPr/>
        </p:nvSpPr>
        <p:spPr>
          <a:xfrm>
            <a:off x="324000" y="5157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Text Box 45"/>
          <p:cNvSpPr/>
          <p:nvPr/>
        </p:nvSpPr>
        <p:spPr>
          <a:xfrm>
            <a:off x="7940520" y="515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9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660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2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673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674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5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6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7" name="Text Box 4"/>
          <p:cNvSpPr/>
          <p:nvPr/>
        </p:nvSpPr>
        <p:spPr>
          <a:xfrm>
            <a:off x="3016080" y="155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数与百分数互化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Text Box 5"/>
          <p:cNvSpPr/>
          <p:nvPr/>
        </p:nvSpPr>
        <p:spPr>
          <a:xfrm>
            <a:off x="1337760" y="23922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Text Box 6"/>
          <p:cNvSpPr/>
          <p:nvPr/>
        </p:nvSpPr>
        <p:spPr>
          <a:xfrm>
            <a:off x="1258920" y="3257640"/>
            <a:ext cx="109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42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Text Box 7"/>
          <p:cNvSpPr/>
          <p:nvPr/>
        </p:nvSpPr>
        <p:spPr>
          <a:xfrm>
            <a:off x="1409040" y="412128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2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Text Box 8"/>
          <p:cNvSpPr/>
          <p:nvPr/>
        </p:nvSpPr>
        <p:spPr>
          <a:xfrm>
            <a:off x="4788000" y="2392200"/>
            <a:ext cx="9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Text Box 9"/>
          <p:cNvSpPr/>
          <p:nvPr/>
        </p:nvSpPr>
        <p:spPr>
          <a:xfrm>
            <a:off x="4608720" y="325764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Text Box 10"/>
          <p:cNvSpPr/>
          <p:nvPr/>
        </p:nvSpPr>
        <p:spPr>
          <a:xfrm>
            <a:off x="4753440" y="4049640"/>
            <a:ext cx="10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Text Box 11"/>
          <p:cNvSpPr/>
          <p:nvPr/>
        </p:nvSpPr>
        <p:spPr>
          <a:xfrm>
            <a:off x="2337840" y="2392200"/>
            <a:ext cx="12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％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Text Box 12"/>
          <p:cNvSpPr/>
          <p:nvPr/>
        </p:nvSpPr>
        <p:spPr>
          <a:xfrm>
            <a:off x="2339280" y="318456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2.9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％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Text Box 13"/>
          <p:cNvSpPr/>
          <p:nvPr/>
        </p:nvSpPr>
        <p:spPr>
          <a:xfrm>
            <a:off x="2338920" y="404964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％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Text Box 14"/>
          <p:cNvSpPr/>
          <p:nvPr/>
        </p:nvSpPr>
        <p:spPr>
          <a:xfrm>
            <a:off x="5832720" y="239220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.7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Text Box 15"/>
          <p:cNvSpPr/>
          <p:nvPr/>
        </p:nvSpPr>
        <p:spPr>
          <a:xfrm>
            <a:off x="5833440" y="3257640"/>
            <a:ext cx="13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.17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Text Box 16"/>
          <p:cNvSpPr/>
          <p:nvPr/>
        </p:nvSpPr>
        <p:spPr>
          <a:xfrm>
            <a:off x="5830200" y="397656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Text Box 17"/>
          <p:cNvSpPr/>
          <p:nvPr/>
        </p:nvSpPr>
        <p:spPr>
          <a:xfrm>
            <a:off x="2195640" y="4767120"/>
            <a:ext cx="41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小数点向右移动两位，添上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Text Box 18"/>
          <p:cNvSpPr/>
          <p:nvPr/>
        </p:nvSpPr>
        <p:spPr>
          <a:xfrm>
            <a:off x="2885040" y="5630760"/>
            <a:ext cx="27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去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，小数点向左移动两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Text Box 19"/>
          <p:cNvSpPr/>
          <p:nvPr/>
        </p:nvSpPr>
        <p:spPr>
          <a:xfrm>
            <a:off x="539640" y="50547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Text Box 20"/>
          <p:cNvSpPr/>
          <p:nvPr/>
        </p:nvSpPr>
        <p:spPr>
          <a:xfrm>
            <a:off x="6804000" y="49831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百分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Line 21"/>
          <p:cNvSpPr/>
          <p:nvPr/>
        </p:nvSpPr>
        <p:spPr>
          <a:xfrm>
            <a:off x="2124000" y="5270400"/>
            <a:ext cx="453564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Line 22"/>
          <p:cNvSpPr/>
          <p:nvPr/>
        </p:nvSpPr>
        <p:spPr>
          <a:xfrm flipH="1">
            <a:off x="1908000" y="555948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6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697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9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710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711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2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3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4" name="Text Box 4"/>
          <p:cNvSpPr/>
          <p:nvPr/>
        </p:nvSpPr>
        <p:spPr>
          <a:xfrm>
            <a:off x="2846160" y="1413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数与百分数互化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Text Box 5"/>
          <p:cNvSpPr/>
          <p:nvPr/>
        </p:nvSpPr>
        <p:spPr>
          <a:xfrm>
            <a:off x="1810440" y="225756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Text Box 6"/>
          <p:cNvSpPr/>
          <p:nvPr/>
        </p:nvSpPr>
        <p:spPr>
          <a:xfrm>
            <a:off x="1908000" y="3219480"/>
            <a:ext cx="8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Text Box 7"/>
          <p:cNvSpPr/>
          <p:nvPr/>
        </p:nvSpPr>
        <p:spPr>
          <a:xfrm>
            <a:off x="1582200" y="415620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8" name="Group 8"/>
          <p:cNvGrpSpPr/>
          <p:nvPr/>
        </p:nvGrpSpPr>
        <p:grpSpPr>
          <a:xfrm>
            <a:off x="5512680" y="3003480"/>
            <a:ext cx="543600" cy="948600"/>
            <a:chOff x="5512680" y="3003480"/>
            <a:chExt cx="543600" cy="948600"/>
          </a:xfrm>
        </p:grpSpPr>
        <p:sp>
          <p:nvSpPr>
            <p:cNvPr id="2719" name="Text Box 9"/>
            <p:cNvSpPr/>
            <p:nvPr/>
          </p:nvSpPr>
          <p:spPr>
            <a:xfrm>
              <a:off x="5606640" y="3003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Text Box 10"/>
            <p:cNvSpPr/>
            <p:nvPr/>
          </p:nvSpPr>
          <p:spPr>
            <a:xfrm>
              <a:off x="5512680" y="3492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Line 11"/>
            <p:cNvSpPr/>
            <p:nvPr/>
          </p:nvSpPr>
          <p:spPr>
            <a:xfrm>
              <a:off x="5543640" y="3517920"/>
              <a:ext cx="5126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2" name="Group 12"/>
          <p:cNvGrpSpPr/>
          <p:nvPr/>
        </p:nvGrpSpPr>
        <p:grpSpPr>
          <a:xfrm>
            <a:off x="5508720" y="1959120"/>
            <a:ext cx="533160" cy="913680"/>
            <a:chOff x="5508720" y="1959120"/>
            <a:chExt cx="533160" cy="913680"/>
          </a:xfrm>
        </p:grpSpPr>
        <p:sp>
          <p:nvSpPr>
            <p:cNvPr id="2723" name="Text Box 13"/>
            <p:cNvSpPr/>
            <p:nvPr/>
          </p:nvSpPr>
          <p:spPr>
            <a:xfrm>
              <a:off x="5571360" y="1959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Text Box 14"/>
            <p:cNvSpPr/>
            <p:nvPr/>
          </p:nvSpPr>
          <p:spPr>
            <a:xfrm>
              <a:off x="5587200" y="241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Line 15"/>
            <p:cNvSpPr/>
            <p:nvPr/>
          </p:nvSpPr>
          <p:spPr>
            <a:xfrm>
              <a:off x="5508720" y="2438640"/>
              <a:ext cx="53316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6" name="Group 16"/>
          <p:cNvGrpSpPr/>
          <p:nvPr/>
        </p:nvGrpSpPr>
        <p:grpSpPr>
          <a:xfrm>
            <a:off x="5580000" y="4011480"/>
            <a:ext cx="533520" cy="928080"/>
            <a:chOff x="5580000" y="4011480"/>
            <a:chExt cx="533520" cy="928080"/>
          </a:xfrm>
        </p:grpSpPr>
        <p:sp>
          <p:nvSpPr>
            <p:cNvPr id="2727" name="Text Box 17"/>
            <p:cNvSpPr/>
            <p:nvPr/>
          </p:nvSpPr>
          <p:spPr>
            <a:xfrm>
              <a:off x="5643000" y="401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Text Box 18"/>
            <p:cNvSpPr/>
            <p:nvPr/>
          </p:nvSpPr>
          <p:spPr>
            <a:xfrm>
              <a:off x="5638320" y="4479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Line 19"/>
            <p:cNvSpPr/>
            <p:nvPr/>
          </p:nvSpPr>
          <p:spPr>
            <a:xfrm>
              <a:off x="5580000" y="452592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0" name="Group 20"/>
          <p:cNvGrpSpPr/>
          <p:nvPr/>
        </p:nvGrpSpPr>
        <p:grpSpPr>
          <a:xfrm>
            <a:off x="2773080" y="2103480"/>
            <a:ext cx="1036800" cy="847080"/>
            <a:chOff x="2773080" y="2103480"/>
            <a:chExt cx="1036800" cy="847080"/>
          </a:xfrm>
        </p:grpSpPr>
        <p:sp>
          <p:nvSpPr>
            <p:cNvPr id="2731" name="Text Box 21"/>
            <p:cNvSpPr/>
            <p:nvPr/>
          </p:nvSpPr>
          <p:spPr>
            <a:xfrm>
              <a:off x="2773080" y="2236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2" name="Group 22"/>
            <p:cNvGrpSpPr/>
            <p:nvPr/>
          </p:nvGrpSpPr>
          <p:grpSpPr>
            <a:xfrm>
              <a:off x="3276720" y="2103480"/>
              <a:ext cx="533160" cy="847080"/>
              <a:chOff x="3276720" y="2103480"/>
              <a:chExt cx="533160" cy="847080"/>
            </a:xfrm>
          </p:grpSpPr>
          <p:sp>
            <p:nvSpPr>
              <p:cNvPr id="2733" name="Text Box 23"/>
              <p:cNvSpPr/>
              <p:nvPr/>
            </p:nvSpPr>
            <p:spPr>
              <a:xfrm>
                <a:off x="3339360" y="2103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Text Box 24"/>
              <p:cNvSpPr/>
              <p:nvPr/>
            </p:nvSpPr>
            <p:spPr>
              <a:xfrm>
                <a:off x="3334320" y="2490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Line 25"/>
              <p:cNvSpPr/>
              <p:nvPr/>
            </p:nvSpPr>
            <p:spPr>
              <a:xfrm>
                <a:off x="3276720" y="2557440"/>
                <a:ext cx="533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36" name="Group 26"/>
          <p:cNvGrpSpPr/>
          <p:nvPr/>
        </p:nvGrpSpPr>
        <p:grpSpPr>
          <a:xfrm>
            <a:off x="2765160" y="2932200"/>
            <a:ext cx="1085760" cy="907560"/>
            <a:chOff x="2765160" y="2932200"/>
            <a:chExt cx="1085760" cy="907560"/>
          </a:xfrm>
        </p:grpSpPr>
        <p:sp>
          <p:nvSpPr>
            <p:cNvPr id="2737" name="Text Box 27"/>
            <p:cNvSpPr/>
            <p:nvPr/>
          </p:nvSpPr>
          <p:spPr>
            <a:xfrm>
              <a:off x="2765160" y="3125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Text Box 28"/>
            <p:cNvSpPr/>
            <p:nvPr/>
          </p:nvSpPr>
          <p:spPr>
            <a:xfrm>
              <a:off x="3352320" y="293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Text Box 29"/>
            <p:cNvSpPr/>
            <p:nvPr/>
          </p:nvSpPr>
          <p:spPr>
            <a:xfrm>
              <a:off x="3162600" y="33800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Line 30"/>
            <p:cNvSpPr/>
            <p:nvPr/>
          </p:nvSpPr>
          <p:spPr>
            <a:xfrm>
              <a:off x="3268800" y="3446640"/>
              <a:ext cx="53316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1" name="Group 31"/>
          <p:cNvGrpSpPr/>
          <p:nvPr/>
        </p:nvGrpSpPr>
        <p:grpSpPr>
          <a:xfrm>
            <a:off x="2836440" y="3940200"/>
            <a:ext cx="1036800" cy="907560"/>
            <a:chOff x="2836440" y="3940200"/>
            <a:chExt cx="1036800" cy="907560"/>
          </a:xfrm>
        </p:grpSpPr>
        <p:sp>
          <p:nvSpPr>
            <p:cNvPr id="2742" name="Text Box 32"/>
            <p:cNvSpPr/>
            <p:nvPr/>
          </p:nvSpPr>
          <p:spPr>
            <a:xfrm>
              <a:off x="2836440" y="4133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＝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3" name="Group 33"/>
            <p:cNvGrpSpPr/>
            <p:nvPr/>
          </p:nvGrpSpPr>
          <p:grpSpPr>
            <a:xfrm>
              <a:off x="3340080" y="3940200"/>
              <a:ext cx="533160" cy="907560"/>
              <a:chOff x="3340080" y="3940200"/>
              <a:chExt cx="533160" cy="907560"/>
            </a:xfrm>
          </p:grpSpPr>
          <p:sp>
            <p:nvSpPr>
              <p:cNvPr id="2744" name="Text Box 34"/>
              <p:cNvSpPr/>
              <p:nvPr/>
            </p:nvSpPr>
            <p:spPr>
              <a:xfrm>
                <a:off x="3402720" y="3940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Text Box 35"/>
              <p:cNvSpPr/>
              <p:nvPr/>
            </p:nvSpPr>
            <p:spPr>
              <a:xfrm>
                <a:off x="3397680" y="4388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Line 36"/>
              <p:cNvSpPr/>
              <p:nvPr/>
            </p:nvSpPr>
            <p:spPr>
              <a:xfrm>
                <a:off x="3340080" y="4454640"/>
                <a:ext cx="533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7" name="Text Box 37"/>
          <p:cNvSpPr/>
          <p:nvPr/>
        </p:nvSpPr>
        <p:spPr>
          <a:xfrm>
            <a:off x="6213960" y="221148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Text Box 38"/>
          <p:cNvSpPr/>
          <p:nvPr/>
        </p:nvSpPr>
        <p:spPr>
          <a:xfrm>
            <a:off x="6212520" y="32907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39"/>
          <p:cNvSpPr/>
          <p:nvPr/>
        </p:nvSpPr>
        <p:spPr>
          <a:xfrm>
            <a:off x="6213960" y="430056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Text Box 40"/>
          <p:cNvSpPr/>
          <p:nvPr/>
        </p:nvSpPr>
        <p:spPr>
          <a:xfrm>
            <a:off x="324000" y="5129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Text Box 41"/>
          <p:cNvSpPr/>
          <p:nvPr/>
        </p:nvSpPr>
        <p:spPr>
          <a:xfrm>
            <a:off x="3011760" y="49118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通常先化成小数，再化成百分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Text Box 42"/>
          <p:cNvSpPr/>
          <p:nvPr/>
        </p:nvSpPr>
        <p:spPr>
          <a:xfrm>
            <a:off x="1619280" y="58482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改写成分母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的分数，能约分的要约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Text Box 43"/>
          <p:cNvSpPr/>
          <p:nvPr/>
        </p:nvSpPr>
        <p:spPr>
          <a:xfrm>
            <a:off x="7779960" y="5200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百分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Line 44"/>
          <p:cNvSpPr/>
          <p:nvPr/>
        </p:nvSpPr>
        <p:spPr>
          <a:xfrm>
            <a:off x="1763640" y="5487840"/>
            <a:ext cx="57610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Line 45"/>
          <p:cNvSpPr/>
          <p:nvPr/>
        </p:nvSpPr>
        <p:spPr>
          <a:xfrm flipH="1">
            <a:off x="1547280" y="5703840"/>
            <a:ext cx="57610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2:01:45Z</dcterms:created>
  <dc:creator/>
  <dc:description/>
  <dc:language>en-US</dc:language>
  <cp:lastModifiedBy>万润仪器贸易公司</cp:lastModifiedBy>
  <dcterms:modified xsi:type="dcterms:W3CDTF">2020-08-21T09:43:16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